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D2E-7311-4D58-8BA4-33082FEB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FE4-E6EF-46CA-A4DB-6ED5BB3E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46C-5CB2-4DEF-BD50-0168EEE3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B98-FD61-48C2-B3E5-AEE74F91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4401-4B50-4B9D-BE6E-E851CC3E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7012-75D3-4706-B0C9-70A45D85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543D-076C-492E-8259-856C51A9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E21A-2275-4DE0-9B35-BAB05EF8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276B-A399-4B2A-8FFC-D42ADAF7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D197-9292-46CE-BC55-8683AA31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13AC-A8C8-4F21-A5BD-4667527B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084-CEBF-405D-A367-9A52A0B9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BE39-2720-4024-976F-F2EB1D9B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3B90-3507-46DB-9113-4B7EBCEE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98BA-4AEB-4438-B49F-E5A1C010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FD42-9B10-4D3E-B22A-248DD835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4EF8-7458-4485-AE13-00BBFCCA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F13-BED6-4604-BD94-E7C84F31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AB3-1D2B-4B29-94D9-763F2FD1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1EC-4217-48F8-A190-EA508349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62D-E3EC-45A7-AAD7-B029BA9A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712-8F42-4145-9BF2-6FDC1D9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A16-4EC0-4424-93C5-4AE42F1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FED-075C-4D2D-A83C-F5E4749C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E215-F325-4130-83FF-2AD3B1E3E7F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B718-3FFE-44C6-9529-AEA30FFF033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METODE ZDRAVSTVENOG </a:t>
            </a:r>
            <a:br>
              <a:rPr sz="3600"/>
            </a:b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ODGOJA I     PROMOCIJA</a:t>
            </a: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br>
              <a:rPr sz="3600"/>
            </a:b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                 ZDRAVLJ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Suštinske promjene odnosa društva prema zdravlju u suvremenom svijetu leže u nastojanju da sačuva zdravlje, tj. spriječi bolest, a ne liječenje od bolesti kad se ona već pojavila.O tome slikovito govori definicija SZO takodjer iz Povelje 1948: « Zdravlje je stanje potpunog tjelesnog duševnnog i društvenog bagostanja, a ne samo odsustvo bolesti ili slabost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Na ovim osnovama poimanja zdravlja uopće počiva i smisao zdravstevnog obrazovanja.Zdravstveno obrazovanje je vid učenja u cilju stjecanja opće zdravstvene kulture, a s osnovnim ciljem očuvati zdravlje. Tako postavljen ovaj pojam zdravstvenog obrazovanja ima i svoje ciljeve učenja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davanje informacij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objašnjavanj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osigurati da klijent objašnjenja razumij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konačni cilj:podizanje razine znanja o zdravlju kod klijent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Pojam blizak zdravstvenom odgoju, iako nešto stariji od njega je zdravstveno prosvjećivanje, a termin zdravstveno prosvjećivanje zvanično se spominje u Deklaraciji SZO 1978 u Alma At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Ključne stavke ove deklaracije su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poziv vladama da štite i promoviraju zdravlj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neprihvatljivost velikih nejednakosti u stanju zdravlja ljud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poziv na gospodarski i društveni razvoj kako bi se postiglo zdravlje za sv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duh socijalne prav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f1311"/>
                </a:solidFill>
                <a:latin typeface="Arial"/>
              </a:rPr>
              <a:t>Glavni zadaci zdravstvenog odgoja</a:t>
            </a: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-da pučanstvo usvoji odredjene higijenske navik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-da stekne osnovna znanja o fizičkom i psihičkom zdravlju i o raznim opasnostima koje prijete zdravlju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-da stekne pozitivne stavove o vlastitom zdravlju zajednice u kojoj živ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-da stvore ispravan stav prema medicinskoj profesiji, kako predrasude ne bi bile prepreka ranom otkrivanju i liječenju bolestiZdravstveni odgoj počiva na zanimanju ljudi za poboljšanje svojih životnih uvjeta, a cilj mu je razvijanje odgovornosti za sopstveno zdravlje, za unaprijedjenje zdravstvenog stanja pojedinca, članova njegove obitelji, te  šire društvene zajednice i državnih institucija kao što su vlade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ojam zdravstvenog odgoja kao područje društveno-znanstvenih djelatnosti ima relativno kratku povijest.Termin se prvi put spominje  1948 u Povelji  Svjetske zdravstvene organizacije (SZO), a konkretna definicija  data je takodjer od strane SZO 1954 putem nalaza Ekspertne skupine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« zdravstveni odgoj je pomoć ljudima u dtjecanju zdravlja putem vlastite akcije i napora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ojam zdravstvenog odgoja kao područje društveno-znanstvenih djelatnosti ima relativno kratku povijest.Termin se prvi put spominje  1948 u Povelji  Svjetske zdravstvene organizacije (SZO), a konkretna definicija  data je takodjer od strane SZO 1954 putem nalaza Ekspertne skupine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« zdravstveni odgoj je pomoć ljudima u dtjecanju zdravlja putem vlastite akcije i napora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Glavni zadaci zdravstvenog odgoj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-da pučanstvo usvoji odredjene higijenske navik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-da stekne osnovna znanja o fizičkom i psihičkom zdravlju i o raznim opasnostima koje prijete zdravlju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-da stekne pozitivne stavove o vlastitom zdravlju zajednice u kojoj živ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-da stvore ispravan stav prema medicinskoj profesiji, kako predrasude ne bi bile prepreka ranom otkrivanju i liječenju bolestiZdravstveni odgoj počiva na zanimanju ljudi za poboljšanje svojih životnih uvjeta, a cilj mu je razvijanje odgovornosti za sopstveno zdravlje, za unaprijedjenje zdravstvenog stanja pojedinca, članova njegove obitelji, te  šire društvene zajednice i državnih institucija kao što su vlad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judi svoje zdravlje  trebaju smatrati značajnom vrijednošću, te biti spremni učiniti i odredjene napore na njegovom očuvanj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.Upravo u tome leži značaj predmeta zdravstveni odgoj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skustvo pokazuje da što se ranije započne sa zdravstvenim odgojem u odnosu na dob, da je rezultat učinkovitij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Današnji čovjek se fizički mnogo manje troši zahvaljujući mehanizaciji i automatizaciji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Medjutim, fizička neaktivnost  dovodi do bržeg  zakrečavanja krvnih žila i opterećanja src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Zajedno s tim ide i neodgovarajući način ishrane, jer veliki broj ljudi konzumira količinski mnogo više hrane, nego što je njihovom organizmu potrebno, tako da je pretilost takodjer jedan od sve većih problema današnjic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Ovdje treba ubrojiti i  konzumaciju  cigareta  i alkohola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f1311"/>
                </a:solidFill>
                <a:latin typeface="Arial"/>
              </a:rPr>
              <a:t>Poseban  uzročnik slabe otpornosti na bolesti današnjice jeste stalna izloženost stresu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. Riješvši se jednih, dostignuća civilizacije dovela su do novih bolesti kao što su danas na vrhu ljestvice u prevalenciji bolesti srca i krvnih žila te maligne bolesti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Znanost je otkrila da mnoge bolesti civilizacije imaju svoj uzrok u načinu života suvremnog čovjek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f1311"/>
                </a:solidFill>
                <a:latin typeface="Arial"/>
              </a:rPr>
              <a:t>Procjena potreba pacijenta/klijent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Tko su moji pacijenti/klijenti? (spol, zanimanje, obiteljska situacija, ekonomsko i socijalno        stanje…)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Koji društveni i faktori sredine imaju utjecaj na njegovo zdravlje (životni uvjeti, zagađenost, mobbing.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Koja su zdravstvena uvjerenja? (stav prema bolesti ili uzroku bolesti, stav prema održavanju zdravlja…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Što bi ih moglo spriječiti u provođenju usvojenih znanja i vještina? (nepovjerenje u poruke zdravstvene edukacije, ne pridavanje dovoljnog značaja zdravlju, nedostatak vještina za promjenu ponašanja..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Zdravstveni odgoj je jedan od osnovnih elemenata očuvanja zdravlja.Može se definirati kao  medicinsko-pedagoška kategorija, koja ima za zadaću promicanje zdravstvene kulture pučanstav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oznato je da se mnoge bolesti mogu spriječiti ako čovjek izbjegava okolnosti  koje pogoduju njihovu nastanku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Zahvaljujući modernoj tehnologiji uvjeti življenja su  nezamislivo olakšani u odnosu na ljude ranijh stoljeć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Napredak medicinske znanosti uspio je lišiti čovječanstvo različitih zaraznih bolesti koje su stoljećima harale, kao što je kuga, tuberkuloza, sifilis i mnoge druge za koje je pronadjen efikasan lijek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DONOŠENJE ETIČKIH ODLUK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Uspješan edukator mora imati pozitivan stav prema slijedećim pitanjim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Gledate li na svoje klijente kao sebi jednake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rimjećujete li potrebe klijenta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Vjerujete li da Vaš klijent ima ista prava kao i Vi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Da li istinski osjećate poštovanje za svoje klijente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Da li iskreno mislite da razumijete Vaša i osjećanja Vaših klijenata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Znate li koji su interesi klijenata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Znate li sve činjenice da bi ste mogli donijeti sud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Da li ste sposobni svoja znanja provesti u akciju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osjedujete li vještinu slušanja, kazivanja i akcije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Da li ste u stanju braniti odluku koju ste donijeli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hr-HR" sz="2400" spc="-1" strike="noStrike">
                <a:solidFill>
                  <a:srgbClr val="f7d47d"/>
                </a:solidFill>
                <a:latin typeface="Arial"/>
              </a:rPr>
              <a:t>ZADATCI MEDICINSKE SESTRE-      </a:t>
            </a: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f7d47d"/>
                </a:solidFill>
                <a:latin typeface="Arial"/>
              </a:rPr>
              <a:t>                        EDUKATORA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repoznati potrebe pacijenta/klijent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Odrediti ciljeve zdravstvene edukacij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redvidjeti eventualne preprek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repoznati faktore koji će pomoći u edukaciji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Koji su resursi na raspolaganju?( ljudi, vrijeme, materijal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Napraviti detaljan plan edukacij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2f1311"/>
                </a:solidFill>
                <a:latin typeface="Arial"/>
              </a:rPr>
              <a:t>Implementacij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ublik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Mjesto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Korišteni resursi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Obrazloženje zbog čega se aktivnost provodi na taj nači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Upotreba tablica i dijagrama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hr-HR" sz="1800" spc="-1" strike="noStrike">
                <a:solidFill>
                  <a:srgbClr val="2f1311"/>
                </a:solidFill>
                <a:latin typeface="Arial"/>
              </a:rPr>
              <a:t>ZDRAVSTVENI EDUKATOR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hr-HR" sz="1600" spc="-1" strike="noStrike">
                <a:solidFill>
                  <a:srgbClr val="2f1311"/>
                </a:solidFill>
                <a:latin typeface="Arial"/>
              </a:rPr>
              <a:t>neformalni:                                                            formalni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Roditelji (djetetu)                                                             - Ško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Prijatelji (pružanje pomoći i                                            - Mediji (radio , TV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razumijevanja za probleme 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                   tisak)     Obiteljski liječnic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rodbine i prijatelja)                                                          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medicinske sestr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                                         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- Nevladine organizacije  organizacij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- Religijske ustanov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- Stručne služb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- Educirane grupe za samopomoć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516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f1311"/>
                </a:solidFill>
                <a:latin typeface="Arial"/>
              </a:rPr>
              <a:t>PRISTUPI ZDRAVSTVENOJ EDUKACIJ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1.</a:t>
            </a:r>
            <a:r>
              <a:rPr b="1" lang="hr-HR" sz="2000" spc="-1" strike="noStrike">
                <a:solidFill>
                  <a:srgbClr val="2f1311"/>
                </a:solidFill>
                <a:latin typeface="Arial"/>
              </a:rPr>
              <a:t>medicinski pristup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: Promocija medicinske intervencije da bi se prevenirala ili ublažila boles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2.</a:t>
            </a:r>
            <a:r>
              <a:rPr b="1" lang="hr-HR" sz="2000" spc="-1" strike="noStrike">
                <a:solidFill>
                  <a:srgbClr val="2f1311"/>
                </a:solidFill>
                <a:latin typeface="Arial"/>
              </a:rPr>
              <a:t> promjena ponašanja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: Promjena stava i ponašanja poradi usvajanja zdravog stila življenj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hr-HR" sz="2000" spc="-1" strike="noStrike">
                <a:solidFill>
                  <a:srgbClr val="2f1311"/>
                </a:solidFill>
                <a:latin typeface="Arial"/>
              </a:rPr>
              <a:t>edukacioni pristup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: Informiranje o uzrocima i efektima faktora koji narušavaju zdravlje.Istraživanje vrijednosti i stavova. Razvoj vještina neophodnih za zdravo življenj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4.</a:t>
            </a:r>
            <a:r>
              <a:rPr b="1" lang="hr-HR" sz="2000" spc="-1" strike="noStrike">
                <a:solidFill>
                  <a:srgbClr val="2f1311"/>
                </a:solidFill>
                <a:latin typeface="Arial"/>
              </a:rPr>
              <a:t> pristup usmjeren na klijenta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: Rad na zdravstvenim pitanjima i problemima prema izboru i potrebi klijenta, njegove obitelji i šire zajedni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5.</a:t>
            </a:r>
            <a:r>
              <a:rPr b="1" lang="hr-HR" sz="2000" spc="-1" strike="noStrike">
                <a:solidFill>
                  <a:srgbClr val="2f1311"/>
                </a:solidFill>
                <a:latin typeface="Arial"/>
              </a:rPr>
              <a:t>društvene promjene</a:t>
            </a: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: Politička i društvena aktivnost za promjenu fizičkog i društvenog okruženja i stvaranje materijalne osnove za poboljšanje uvjeta potrebnih za zdravo življenj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PRIMARNA, SEKUNDARNA I TERCIJARNA MEDICINJSKA EDUKACIJ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f1311"/>
                </a:solidFill>
                <a:latin typeface="Arial"/>
              </a:rPr>
              <a:t>Primarna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zdravstvena edukacija: Usmjerena je na zdrave ljudi radi prevencije bolesti (higijena, kontracepcija….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f1311"/>
                </a:solidFill>
                <a:latin typeface="Arial"/>
              </a:rPr>
              <a:t>Sekundarna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zdravstvena edukacija: upoznavanje pacijenta sa njegovi stanjem, promjena ponašanja i navika, terapijski režim, samopomoć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f1311"/>
                </a:solidFill>
                <a:latin typeface="Arial"/>
              </a:rPr>
              <a:t>Tercijarna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zdravstvena edukacija: educiranje pacijenta i njegove obitelji o kako živjeti sa bolesti, kako iskoristiti preostale sposobnosti, kako izbjeći ograničenja i komplikacije bolesti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2f1311"/>
                </a:solidFill>
                <a:latin typeface="Arial"/>
              </a:rPr>
              <a:t>CILJEVI ZDRAVSTVENOG OBRAZOVANJ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Zdravstvena edukacija je najvažniji i najizazovniji aspekt uloge sestre. Sestre predstavljaju brojčano najveću  skupinu zdravstvenih radnika i imaju izuzetno blizak kontakt sa pacijentima  i sa općom javnošću tako da imaju visok potencijal da utječu na zdravlje ljudi. Sestre, u suradnji sa ostalim medicinskim djelatnicima i stručnim službama, moraju prepoznati svoju ulogu i svoj potencijal u procesu zdravstvenog obrazovanj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Svijest o zdravlju ima za cilj podići nivo svijesti o zdravstvenim pitanjim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Znanje: sticanje znanja ima za cilj da se omogući prenošenje informacija o unapređenju zdravlj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Dalji razvoj pristupa zdrvstvenom prosvjećivanju ogleda  se u još jednoj deklaraciji SZO, a to je ona iz Ottawe 1985 gdje se definira ovako: «zdravstveno prosvjećivanje je proces koji omogućava ljudima da poboljšaju svoje zdravlje i povećaju kontrolu nad njim.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33:09Z</dcterms:created>
  <dc:creator>Vera Danes</dc:creator>
  <dc:description/>
  <dc:language>en-US</dc:language>
  <cp:lastModifiedBy>Vera Danes</cp:lastModifiedBy>
  <dcterms:modified xsi:type="dcterms:W3CDTF">2013-04-05T10:12:27Z</dcterms:modified>
  <cp:revision>25</cp:revision>
  <dc:subject/>
  <dc:title>METODE ZDRAVSTVENOG   ODGOJA I     PROMOCIJA                                      ZDRAVLJA</dc:title>
</cp:coreProperties>
</file>