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73E5A-6C58-4A2C-9108-C6B548DF7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323F-0DF0-41CC-B21E-3F6894F61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82E26-2F1D-41DF-B26B-A65B2CAE9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AD0DA-2EA9-4500-93C4-548B1F03C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0C764-C8DF-4A16-85F2-7C4617FB2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843AC-6C3B-48B6-BB22-EFCF190BA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E8D57-13E0-4A6B-8B10-25B2142C1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29C79-98BC-454D-A029-9FFB6DD9C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2E230-5E72-498C-96AA-A1A89CD15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DBCA7-5F95-4A0F-8FED-968D2DFE8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95F75-FFF9-4483-BD54-BCC59B8AF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D34D-B120-42DA-88D5-4DB737E5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B348-A551-4D99-93D6-60499A90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A3081-314E-499B-A0E1-1DE29BB25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83706-91AE-4B9F-BD95-23645B862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A58C0-8951-432A-91E5-DA13425C21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FBBDB-0417-45F0-ABCB-76F21664A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B643-AD1A-41CF-AAEB-4AEA4C2A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8321-2846-4936-BB6C-36B0AA89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3E89-8CD0-4B14-975D-AFC3E12C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3D2D2-A9B3-4991-8B95-8B35E81A2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C517-942C-4F03-933A-862291DF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A686-CB9A-46F1-A9CD-743AF9BE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E4B6-0D8F-48FA-8990-C1DF274D5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A876-07B8-4860-A1F7-8924FE24866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D609-BF04-4B11-BF9B-B7514F85EBB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400" spc="-1" strike="noStrike">
                <a:solidFill>
                  <a:srgbClr val="ffffcc"/>
                </a:solidFill>
                <a:latin typeface="Tahoma"/>
              </a:rPr>
              <a:t>ZNANJE</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Što se tiče motivacije kao stimulusa za učenje stručna mišljenja se razlikuju, ali je usuglašeno da je motivacija odlučujući uvjet da se pristupi učenj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Čovjekova sposobnost samo odredjuje mogućnost za učenje, a motivacija ga pokreće tj. tu mogućnost ostvaruje.Ipak motiv može donekle nadomjestiti nedostatak sposobnosti naročito ako nastavno gradivo sadrži zadatke koji nisu preteški, ali zahtijevaju ustrajnos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eliki utjecaj na učenje imaju pohvala i prijekor. Istraživanja su pokazala da je pohvala efikasnija nego prijekor.Najslabiji upjeh postiže ignorirana grup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mo u pojedinim slučajevima prijekor daje pozitivan rezultat i to posebno kod ljudi visoke inteligencije.</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jekor sužava uspjeh u učenju kod  učenika ispodprosječnih sposobnosti, a posebno kod osoba sa emocionalnim poremećajima.Prijekor često može ubiti interes za učenje</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Elementi  strukture ličnosti koji utječu na psihički transfer</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lo je jednostavno uočiti razlike u sposbnostima za učenje.U školi se lako zapaze te razlike, bolji učenici daleko iza sebe ostave slabije.Tri su glavne vrste čimbenika koji utječu na učenje:</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1.motivacija ili ono što čovjek </a:t>
            </a:r>
            <a:r>
              <a:rPr b="1" lang="hr-HR" sz="2800" spc="-1" strike="noStrike">
                <a:solidFill>
                  <a:srgbClr val="ffffff"/>
                </a:solidFill>
                <a:latin typeface="Tahoma"/>
              </a:rPr>
              <a:t>hoće</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2.sposobnost ili ono što čovjek </a:t>
            </a:r>
            <a:r>
              <a:rPr b="1" lang="hr-HR" sz="2800" spc="-1" strike="noStrike">
                <a:solidFill>
                  <a:srgbClr val="ffffff"/>
                </a:solidFill>
                <a:latin typeface="Tahoma"/>
              </a:rPr>
              <a:t>može</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3.prethodno znanje ili ono što čovjek </a:t>
            </a:r>
            <a:r>
              <a:rPr b="1" lang="hr-HR" sz="2800" spc="-1" strike="noStrike">
                <a:solidFill>
                  <a:srgbClr val="ffffff"/>
                </a:solidFill>
                <a:latin typeface="Tahoma"/>
              </a:rPr>
              <a:t>zna</a:t>
            </a:r>
            <a:r>
              <a:rPr b="0" lang="hr-H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 razlozima od kojih ovisi smjer i intenzitet transfera od kojih su dva glavna može se reći slijedeć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intenzitet transfera ovosi od stupnja sličnosti medju podražajima s obje situacije.Što su podražaji sličniji učenje aktivnosti A bolje utječe na kasnije učenje aktivnosti B.</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smjer transfera ovisi o sličnosti odnosno podudarnosti  odgovora.Sličniji odgovori daju pozitivan  transfer</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Čovjek usvaja znanje prvenstveno razumijevanjem sadržaja.O znanju govorimo kada pojedinac operira značenjem riječi i veza riječi: pojmovima opsima,sudovima,zaključcima, definicijama-tj. onim situacijama kada može istu misao izraziti na različite načine.Nije važna specifična formulacija nego sadržaj koji izaziva formulacija.</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spješno usvajanje znanja  zahtijeva da čovjek za vrijeme učenja bude što više aktiv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čenje je ujedno i mišljenje.Nemoguće je zapamtiti sve što čovjek čuje ili čita.Za vrijeme učenja treba razabirati značajno gradivo i nastojati da se to održi u središtu pažnje.Pojedini govorni izrazi, opisi, poredjenja primjedbe nisu toliko važni, koliko  zakonitosti i principi</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čajne stvari se zapisuju i poslije ponavljaju.Bilješke sadrže samo ono što je čitatelju važno ili mu se čini važno.Tako netko podvlači dijelove teksta, netko pravi kratke zabilješke na margini stranice.Isto su tako važni izvodi koje netko pravi poslije učenja iz teksta.Oni su jezgra sadržaja koji je u njima zbijen u nekoliko rečenica.Za vrijeme pisanja izvoda učenik je vrlo aktivan, a to pomaže temeljitijem usvajanju gradiva.Izvadci su odlično sredstvo za ponavlj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ahoma"/>
              </a:rPr>
              <a:t>Psihički transfe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ože biti pozitivni i negativni.U psihologiji transferom označavamo prijenos rezultata jedne naučene aktivnosti na učenje i izvodjenje druge aktivnosti</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ransfer djeluje za vrijeme opažanja, mišljenja osjećanja, a naročito za vrijeme učenja.Učenje se nikada ne vrši bez transfera, stalno prenosimo prošla iskustva, saznanja, vještine i navike u ono što tek saznajemo</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 primjer, kada dijete uči pisati, pomaže mu sve ono što je ranije naučilo: crtati, rezati, sklapati, tj. pomaže mu vještina prstiju koju je steklo dok je crtalo, okretalo predmete.Kad se kao odrasla osoba uključi u rad, pomaže mu sve što je naučio u školi.</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U životu se samo rijetko susreću  identične situacije, koje bi zahtijevale identične djelatnosti.Nove situacije uvijek traže izmijenjene oblike reagiranja, a te izmjene olakašava psihički transfer</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itanje u kojoj mjeri teoretsko znanje utječe na praktičan rad, je ustvari pitanje transfera.Učinak transfera je dvostruk: učenje neke aktivnosti može poboljšati ili oslabiti uspjeh u učenju, pa se zato razlikuju pozitivni i negativni transfer- primjer sa učenjem dva strana jezika.Prvi može utjecati na učenje drugog u pozitivnom ili negativnom smislu, što je očigledan primjer postojanja psihičkog transfer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7:26:21Z</dcterms:created>
  <dc:creator>Vera Danes</dc:creator>
  <dc:description/>
  <dc:language>en-US</dc:language>
  <cp:lastModifiedBy>Vera Danes</cp:lastModifiedBy>
  <dcterms:modified xsi:type="dcterms:W3CDTF">2013-04-05T10:22:10Z</dcterms:modified>
  <cp:revision>12</cp:revision>
  <dc:subject/>
  <dc:title>ZNANJE</dc:title>
</cp:coreProperties>
</file>