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9F8-34B9-4094-8FEF-584A8A4B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D24-6CD4-44B7-A08D-89324089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A97-E1D9-409E-ABD2-B7BC725D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634-262D-4BDC-8BB1-BDD06004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94DC4-C810-4F80-AD2B-CED4FA4C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CC83F-A752-44C4-8868-F5B55FFA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0C3DA-BF83-43AE-9607-C357B400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0C910-7D1E-485E-9218-8F6706B3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97185-C879-4C11-A1F7-9CB290B5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D7A0F-16F0-4072-AABC-D3C9DD61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A4AF6-CF24-4737-B878-5E3EF01D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90C-5200-4DB9-80A0-0F6CCBB4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B2C49-D0EA-4398-A0A0-C900E16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8DB42-42B3-4100-AFBE-D4059D8F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3ABF3-2F92-4700-85C0-EA16F4D2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F3965-02B7-4B4A-987A-DAD79E52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1095E-E378-40EB-A99D-C5B52C68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E78-E71C-4764-8790-94E4CEB3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C16-6D28-41DB-B210-F72D31B8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CB1-352F-4651-BE38-4CA52868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131-9B75-48AF-95B0-AF996B24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4FC-E0AE-481E-AA06-074CEB61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AE1-256D-48B0-A7C0-1948BC0C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0CA-08B2-4D21-A4AD-5DB46981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4FD8-1D74-4D12-9106-3A24DDF398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CFD0-F747-4051-B884-9D15F6313C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e3e3ff"/>
                </a:solidFill>
                <a:latin typeface="Arial"/>
              </a:rPr>
              <a:t>Zaštita mentalnog zdravlja u zajednici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pravo ovaj tip psihijatrijske institucije čini odredjenu vezu izmedju svih navedenih tipova psihijatrijskih institucija.Ovaj termin kao i vid psihijatrijske zaštite preuzet je iz anglo-saksonskog područja.Taj način liječenja poznat je i kao liječenje i rehabilitacija psihijatrijskih bolesnika u zajed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.Zapravo, iako je potekao iz navedenih područja, svoju prvu praktičnu potvrdu ovaj vid institucije dobio je u Italiji, u Trst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bog toga se u praksi ovo često naziva i „tršćanski model“ zaštite mentalnog zdravlja.U tom gradu su prije tridesetak godina, prvi put zatvoreni bolnički odjeli zamijenjeni ambulatn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Centar za mentalno zdravlje je na stanoviti način prevazilaženje tradicionalne psihijatrijske prakse. Pružaju  se usluge korisnicima po principu timskog rada profesionala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im č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sihijatar, psiholog, viša medicinska sestra, patronažna sestra, okupacioni terapeut, socijalni radnik, te po potrebi i duhovna osoba (svećen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entalno zdravlje u zajednici je interdisciplinarno područje djelovanja, koje se razvilo na području psihijatrije, s namjerom da se slijede uvremeni ciljevi rehabilitacije psihijatrijskih bolesnik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i ciljevi s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poboljšanje i promjena  stava ljudi u psihičkoj nevol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poboljšanje i promjena službi s namjerom da se slijede potrebe stanovništva odnosono bolesn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stvaranje takvih društvenih uvjeta, koji će onemogućiti loše posljedice liječenja i uopće doprinijeti umanjenju općeg negativnog odnosa prema psihijatrijskom bolsnik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a učinkovitost centra za mentalno zdravlje može se reći da je njihov značaj u slijedeć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poboljšanju položaja korisnika tj. ljudi sa psihičkim problemima, krizama i trajnijim oboljenjima psih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mijenjanje uloga i  sadržaja stručne službe prema potrebama , željama i nuždama korisn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-društveno prevrednovanje i  opći stav  društva prema ludilu, nevolji i različit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46:47Z</dcterms:created>
  <dc:creator>Vera Danes</dc:creator>
  <dc:description/>
  <dc:language>en-US</dc:language>
  <cp:lastModifiedBy>Vera Danes</cp:lastModifiedBy>
  <dcterms:modified xsi:type="dcterms:W3CDTF">2013-04-05T10:18:03Z</dcterms:modified>
  <cp:revision>7</cp:revision>
  <dc:subject/>
  <dc:title>Zaštita mentalnog zdravlja u zajednici</dc:title>
</cp:coreProperties>
</file>