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03D28-35A7-4434-8243-A13AAF79F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DE953-564B-44D2-B8EB-AF31D3A4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1E6F-3CF8-48A6-8969-171ACC6BB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2BB1C-0973-49D5-99DA-29A17D8C6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BBE51-A9EA-48BB-B237-710FF20C4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D0B0E-02EC-4862-A9EE-5262A4043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5A09C-72D0-4A09-B283-73FB2360A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0AFCF-F0D6-4F0B-BE78-D0908A66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720B6-DDD4-41A2-B831-3C4502710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F73C-042A-40FE-811E-033F84244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88800-A962-4E34-9817-83DCE9A09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819C6-C762-43A8-95AF-05FE6FB6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CDD1-87BE-41D7-8EA1-4A04BAB3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2450-82B2-4B19-AF65-52C430F5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2D0BD-3247-4575-9C34-0A1D8D356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266BF-6B1C-4AC0-949F-8665ABCAF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D754A-170F-49C8-8F8C-AD4A8389F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49EFE-FDBE-445A-A47D-BE91101A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6A1A-1320-4649-B297-67FB2BDE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0A73-6A3E-474B-8791-655473CB0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7466-FD23-455D-A54B-27CFDE397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5C2D-D45C-4806-B7FD-6221478D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6FCB-EE90-4EB8-97FB-77AEBD21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EFF5-A82C-4C0F-8EDF-85A2B7A5A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64F8-DC9B-4DBE-B944-BC966F2FBB2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A10F-A0A1-4911-9C91-B29F58CFE2C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feec94"/>
                </a:solidFill>
                <a:latin typeface="Times New Roman"/>
              </a:rPr>
              <a:t>ZDRAVSTVENI ODGOJ </a:t>
            </a:r>
            <a:br>
              <a:rPr sz="4800"/>
            </a:br>
            <a:r>
              <a:rPr b="1" lang="hr-HR" sz="4800" spc="-1" strike="noStrike">
                <a:solidFill>
                  <a:srgbClr val="feec94"/>
                </a:solidFill>
                <a:latin typeface="Times New Roman"/>
              </a:rPr>
              <a:t>I </a:t>
            </a:r>
            <a:br>
              <a:rPr sz="4800"/>
            </a:br>
            <a:r>
              <a:rPr b="1" lang="hr-HR" sz="4800" spc="-1" strike="noStrike">
                <a:solidFill>
                  <a:srgbClr val="feec94"/>
                </a:solidFill>
                <a:latin typeface="Times New Roman"/>
              </a:rPr>
              <a:t>PROMOCIJA ZDRAVLJA</a:t>
            </a:r>
            <a:endParaRPr b="1" lang="en-US" sz="4800" spc="-1" strike="noStrike">
              <a:solidFill>
                <a:srgbClr val="feec94"/>
              </a:solidFill>
              <a:latin typeface="Times New Roman"/>
            </a:endParaRPr>
          </a:p>
        </p:txBody>
      </p:sp>
      <p:sp>
        <p:nvSpPr>
          <p:cNvPr id="120"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Dalji razvoj pristupa zdrvstvenom prosvjećivanju ogleda  se u još jednoj deklaraciji SZO, a to je ona iz Ottawe 1985 gdje se definira ovak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a:t>
            </a:r>
            <a:r>
              <a:rPr b="1" lang="hr-HR" sz="3200" spc="-1" strike="noStrike">
                <a:solidFill>
                  <a:srgbClr val="ffffff"/>
                </a:solidFill>
                <a:latin typeface="Times New Roman"/>
              </a:rPr>
              <a:t>zdravstveno prosvjećivanje je proces koji omogućava ljudima da poboljšaju svoje zdravlje i povećaju kontrolu nad nj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uštinske promjene odnosa društva prema zdravlju u suvremenom svijetu leže u nastojanju da sačuva zdravlje, tj. spriječi bolest, a ne liječenje od bolesti kad se ona već pojavila.O tome slikovito govori definicija SZO takodjer iz Povelje 1948: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Zdravlje je stanje potpunog tjelesnog duševnnog i društvenog bagostanja, a ne samo odsustvo bolesti ili slabosti».»Ova pola stoljeća stara definicija iako je doživjela mnogo kritike, ipak u svojoj osnovi  je otvorila novu stranicu u shvatanju pojma zdravlja odnosno njegov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Vremenom se s promjenama u društvenim odnosima, izmedju ostalog mijenjao i pojam poimanja zdravlja uopć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 </a:t>
            </a:r>
            <a:r>
              <a:rPr b="0" lang="hr-HR" sz="3200" spc="-1" strike="noStrike">
                <a:solidFill>
                  <a:srgbClr val="ffffff"/>
                </a:solidFill>
                <a:latin typeface="Times New Roman"/>
              </a:rPr>
              <a:t>Suvremnija definicija takodjer data od strane SZO (1988) kaže:»Osnovne predpostavke i izvori zdravlja jesu mir, obrazovanje, hrana,prihodi, stabilni eko-sustav,održive rezerve,pravda, jednako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U suvremnim znanstvenim trendovima pojam zdravlja raščlanjuje na odredjene elemente prema  odgovarajućoj  sferi ljudskog bića, pa se tako razlikuj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tjelesno zdravlj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intelektualno zdravlj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emocionalno zdravlj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moralno zdravlj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uhovno zdravlj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socijalno zdravlj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Na ovim osnovama poimanja zdravlja uopće počiva i smisao zdravstevnog obrazovanj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imes New Roman"/>
              </a:rPr>
              <a:t>Zdravstveno obrazovanje je vid učenja u cilju stjecanja opće zdravstvene kulture, a s osnovnim ciljem očuvati zdravlje</a:t>
            </a:r>
            <a:r>
              <a:rPr b="0" lang="hr-H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Tako postavljen ovaj pojam zdravstvenog obrazovanja ima i svoje ciljeve učenj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avanje informacij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objašnjavanj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osigurati da klijent objašnjenja razumij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konačni cilj:podizanje razine znanja o zdravlju kod klij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dravstveni odgoj je jedan od osnovnih elemanata očuvanja zdravlja.Može se definirati kao  medicinsko-pedagoška kategorija, koja ima za zadaću promicanje zdravstvene kulture pučanstav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znato je da se mnoge bolesti mogu spriječiti ako čovjek izbjegava okolnosti  koje pogoduju njihovu nastanku.Primjer za to jeste da danas medicina može suzbiti širenje nekih bolesti, ali se mjere zdravstvene zaštite ne mogu sprovesti uspješno.Konkretnije, primjer  za ovo jeste, kada društvo izgradi zadovoljavajuću vodovodnu-kanalizacionu mrežu, ali ako stanovnici nemaju naviku pranja ruku, zarazna bolest će se ipak proširt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nanost je otkrila da mnoge bolesti civilazcije imaju svoj uzrok u načinu života suvremnog čovjeka</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Zahvaljujući modernoj tehnologiji uvjeti življenja su  nezamislivo olakšani u odnosu na ljude ranijih stoljeća. Napredak medicinske znanosti uspio je lišiti čovječanstvo različitih zaraznih bolesti koje su stoljećima harale: kuga, tuberkuloza, sifilis i mnoge druge za koje je pronadjen efikasan lijek.</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S druge strane, na odredjeni način ljudski organizam plaća neku vrstu danka tim dostignućima. Riješvši se jednih, dostignuća civilizacije dovela su do novih bolesti.</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anas su na vrhu ljestvice u prevalenciji bolesti srca i krvnih žila ,maligne bolesti,depresij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Današnji čovjek se fizički mnogo manje troši zahvaljujući mehanizaciji i automatizaciji.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Fizička neaktivnost  dovodi do bržeg  zakrečavanja krvnih žila i opterećanja srca.Zajedno s tim ide i neodgovarajući način prehrane, jer veliki broj ljudi konzumira količinski mnogo više hrane, nego što je njihovom organizmu potrebno, tako da je pretilost takodjer jedan od sve većih zdravstvenih problema današnjic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Ovdje treba ubrojiti i  konzumaciju  cigareta  i alkohola.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imes New Roman"/>
              </a:rPr>
              <a:t>Poseban  uzročnik slabe otpornosti na bolesti današnjice ima stalna izloženost stres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Ljudi svoje zdravlje  trebaju smatrati značajnom vrijednošću, te biti spremni učiniti i odredjene napore na njegovom očuvanj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Upravo u tome leži značaj predmeta zdravstveni odgoj.</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Iskustvo pokazuje da što se ranije započne sa zdravstvenim odgojem u odnosu na dob, da je rezultat učinkovitij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jam zdravstvenog odgoja kao područje društveno-znanstvenih djelatnosti ima relativno kratku povije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Termin se prvi put spominje  1948 u Povelji  Svjetske zdravstvene organizacije (SZ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a:t>
            </a:r>
            <a:r>
              <a:rPr b="0" lang="hr-HR" sz="2800" spc="-1" strike="noStrike">
                <a:solidFill>
                  <a:srgbClr val="ffffff"/>
                </a:solidFill>
                <a:latin typeface="Times New Roman"/>
              </a:rPr>
              <a:t>Konkretna definicija  data je takodjer od strane SZO 1954 putem nalaza Ekspertne skupin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 zdravstveni odgoj je pomoć ljudima u dtjecanju zdravlja putem vlastite akcije i napo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imes New Roman"/>
              </a:rPr>
              <a:t>Glavni zadaci zdravstvenog odgoja</a:t>
            </a:r>
            <a:r>
              <a:rPr b="0" lang="hr-HR"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a pučanstvo usvoji odredjene higijenske navik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a stekne osnovna znanja o fizičkom i psihičkom zdravlju i o raznim opasnostima koje prijete zdravlju.</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a stekne pozitivne stavove o vlastitom zdravlju zajednice u kojoj živ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a stvore ispravan stav prema medicinskoj profesij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imes New Roman"/>
              </a:rPr>
              <a:t>Zdravstveni odgoj počiva na zanimanju ljudi za poboljšanje svojih životnih uvjeta, a cilj mu je razvijanje odgovornosti za sopstveno zdravlje, za unaprijedjenje zdravstvenog stanja pojedinca, članova njegove obitelji, te  šire društvene zajednice i državnih institucija kao što su vla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jam blizak zdravstvenom odgoju, iako nešto stariji od njega je zdravstveno prosvjećivanje, a termin zdravstveno prosvjećivanje zvanično se spominje u Deklaraciji SZO 1978 u Alma A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Ključne stavke ove deklaracije su:</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ziv vladama da štite i promoviraju zdravlj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neprihvatljivost velikih nejednakosti u stanju zdravlja ljud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poziv na gospodarski i društveni razvoj kako bi se postiglo zdravlje za sv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imes New Roman"/>
              </a:rPr>
              <a:t>duh socijalne prav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08:05:46Z</dcterms:created>
  <dc:creator>Vera Danes</dc:creator>
  <dc:description/>
  <dc:language>en-US</dc:language>
  <cp:lastModifiedBy>Vera Danes</cp:lastModifiedBy>
  <dcterms:modified xsi:type="dcterms:W3CDTF">2013-04-07T08:32:56Z</dcterms:modified>
  <cp:revision>15</cp:revision>
  <dc:subject/>
  <dc:title>ZDRAVSTEVNI ODGOJ I PROMOCIJA ZDRAVLJA</dc:title>
</cp:coreProperties>
</file>