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9AA8-4CEC-4B9D-BAC9-A4380CF3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9416-C944-4036-BABD-BCD44183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B7D9-ECCB-4943-BF55-87DEA949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F7D8-56CA-4EA7-BE4F-40A7D046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D21B-C3F0-47C6-87C1-C580F7C8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C1A4-0478-45EF-98B5-99F0EFC5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E63D-9C5C-4D34-91B8-4ED44FF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E481-3001-4BBC-8825-87ACAC21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75C2-6617-4E3B-A91A-60EBC9E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B43D-571B-4F26-99F6-83CEA192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C238-A1D2-4E5C-873B-6010E70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12AA-8BC7-4259-BBF1-1FF8CA37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38BA-8F13-4B95-9C76-D68D1812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C522-6F49-420B-B954-124C6256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5434-02D8-448F-B6CB-16060C48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9190-3576-4FCC-8648-D40C4C14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A840-4A07-4B71-A0E9-3B6FC3FB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4F7B-8D06-4E9F-8435-1C6281FE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3AC3-B99A-4E2B-9DC7-D8FE05C5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FA93-E5A4-4430-87F3-DA6A269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A02A-C555-4C53-8A82-91240EEB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D118-C7AA-4E93-B23E-DB8BCF10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C5D5-5BA5-4148-89F6-19C27270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28DB-5C4E-4F50-B004-34E4F5F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F59A-F602-4A40-BE55-09498B8B6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999F-3096-4AB2-B17D-DA149CD77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5e5ff"/>
                </a:solidFill>
                <a:latin typeface="Garamond"/>
              </a:rPr>
              <a:t>Prof.Dr.Vera Daneš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Garamond"/>
              </a:rPr>
              <a:t>MENTALNA HIGIJENA SVAKODNEVNOG ŽIVLJENJ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Zahvaljujuci suvremenim dijagnostickim metodama, danas je moguce putem mnogih testova izdvojiti pojedince koji imaju urodjenu ili stecenu predispoziciju za obolijevanje od teskih  kronicnih  bolesti ili karcinom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rateci i usmjeravajuci u pozitivnom medicinsko-zdravstvenom smislu takve pojedince moguce je sprijeciti pojavu bole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Dijagnost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bez obzira na svu tehnološku suvremenost dijagnostickih metoda izravni intervju izmedju zdravstvenog djelatnika i bolesnika je neizbjez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Ucinak intervjua je dvojak: pored dobijanja podataka bitno je uspostavljanje dobrih medjuljudskih odnosa izmedju dvije osob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utem intervjua izgradjuje se stav povjerenja, a povjerenje ima ucinak kojim se bolesnik oslobadja straha prema lijecniku i zdravstvenom djelatnik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Na taj nacin se oslobadja i straha prema svojoj bolesti, što uveliko moze pospjesiti proces ozdravljenj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Lijece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Kvaliteta  medjuljudskog  odnosa zdravstveni djelatnik bolesnik utjece na proces na lijecenj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Bilo da se radi o izljecivoj ili neizljecivoj bolesti uspješan  medjuljudski kontakt moze mnogo pomoci bolesniku ali i njegovoj rodbi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U opcem zanosu znanstvenog i tehnološkog napretka  u XIX i XX stoljecu medicini je pripisivana odlucujujca uloga u zaštiti ljudi od bolesti i pronalazenja mogucnosti produzenja ljudskog vijek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Suvremena medicina se danas osvrce na probleme koje nije u stanju riješiti, a oni su proizvod razlicitih društvih promjen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To su prvenstveno demografske i ekonomske promje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Tehnološki napredak donio je na neki nacin i dehumanizaciju odnosa izmedju zdravstvenih djelatnika i bolesni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ovecanjem medicinskih znanja, razvojem raznih specijalizacija i subspecijalizacija, te usavršavanjem tehnike medicinskih aparata, neminovno dolazi do udaljavanja ljudskog, psihološkog odnosa izmedju zdravstvenog djelatnika i bolesni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Taj medjuljudski kontakt je emotivno siromašan, jer i lijecnik i medicinska sestra više pri pregledu gledaju u papire nego u bolesni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Tako je u nekim granama medicine takoreci potpuno prestao fizicki kontakt pregleda bolesni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Takve stavove strucnjaka bolesnici nazalost jako dobro osjecaju te je sasvim izvjesno da se mora odraziti i na uspješnost lijecenj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Zbog svega navedenog postavlja se danas u prvi plan potreba kvalitete medjuljudske komunikacije izmedju zdravstvenih djelatnika i bolesnik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U tom cilju koncipiranje zdravstvenih programa se uvelike mora baviti zdravstveno-psihološkom dimenzijom dijagnostike i lijecenj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To znaci da medicinski programi trebaju obavezno sadrzavati i psihosocijalnu komponent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Garamond"/>
              </a:rPr>
              <a:t>Upravo zbog te komponente zdravstveni djelatnici postaju cesto nesigurni kada treba lijeciti bolesnika kod kojega nije dovoljno samo obaviti laboratorijske ili rentgenske pretrage, nego je evidentno prisutna i psihološka crta lijecenja bole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To su bolesti kod kojih je instrument dijagnostike iskljucivo lijecnik s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To su psihijatrijske bolesti, ali one nipošto nisu jedini predmet izucavanja zdravszvene psihologi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Naglasak na zadaci zdravstvene psihologije jeste sociopsihološki pristup odredejenom medicinskom pitan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Zdravstveni djelatnik neovisno o tome da li ce raditi na kirurgiji, internom ili psihijatriji treba se odnositi prema bolesniku kao prema ljudskom biću, a ne predmetu na kojem ce demonstrirati naucene vješt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Tri su osnovna podrucja medicine kojeim se bavi zdravstvena psihologij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REVEN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DIJAGNOST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LIJECEN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reven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neophodno je dobro poznavati socijalne osobenosti pucanstva, tamo gdje se zeli promovirati program prevenci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To podrazumijeva nacin zivota, ishrane, navika, vjerovanj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osebna je znacajka nauciti pucanstvo da redovito dolazi na pregle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09:50Z</dcterms:created>
  <dc:creator>Vera Danes</dc:creator>
  <dc:description/>
  <dc:language>en-US</dc:language>
  <cp:lastModifiedBy>Vera Danes</cp:lastModifiedBy>
  <dcterms:modified xsi:type="dcterms:W3CDTF">2013-04-05T10:11:27Z</dcterms:modified>
  <cp:revision>6</cp:revision>
  <dc:subject/>
  <dc:title>Slide 1</dc:title>
</cp:coreProperties>
</file>