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B20-02D6-4F14-AC5A-631121C4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174-99AD-4436-8334-91B2D03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9E6-BCF2-4781-AD77-D37CCD6D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CE7-6019-43CA-8F3C-9A7DB890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F33E-7F14-4507-90E7-F5E948A2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E573-57D6-406A-BE97-C9E9B60C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E271-DC71-4F3D-926C-858B092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7F00-7F34-45E4-B578-5B94A1A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EB64-4F20-414A-84B8-E240C58A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30D-F312-4DE5-A45D-6BA12BAA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57CA-3990-4F76-942F-BFF5278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17B-663E-4B6A-986E-AA271CFA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2157-F255-48D6-A0C0-D4FC823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ECDF-F4AD-420B-BEF9-098E41C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153-0A23-4EB9-9D9C-EB74DE7E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F0D-BF83-4453-BE5D-98AD4D80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E569-B672-4AFA-9F8A-C0AC103A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CA2-3D76-4892-80F0-044F8FB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54A-0DDD-4D8B-B8A7-A9C063BE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9AE-5C92-4C1D-AAD8-76AF9081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6C6-2AD6-4025-90D3-1929F90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8D5-5DFF-4610-9436-53F132C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950-CD41-4F2F-A3C5-02187AB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288-F543-48BE-B07B-42810197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9D7-9D21-4021-A505-7200524AE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80F-0F9B-46B8-A295-11340B1D4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b7"/>
                </a:solidFill>
                <a:latin typeface="Arial Black"/>
              </a:rPr>
              <a:t>ZDRAVSTEVENI ODGOJ I LJUDSKA PRAVA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govarajuće zdravstvene kapacitete, pristupačne i otvorene svim građanima pod jednakim uvjet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stup sigurnoj i pitkoj v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govarajućoj sanitaciji odgovarajuće snadbijevanju sigurnom hranom i prehran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dgovarajućim stanovanj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dravom radnom sredinom i okruženj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stup zdravstveno orijentiranoj edukaciji i informacijama uključujući i seksualno i produktivno zdravl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avo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 zdravlje kao osnovno ljudsko prav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vaj značajan postulat usvojen je 1998 na Skupštini Svjetske zdravstvene organizacije (u daljem tekstu SZO), a proistekao je kao sjednica Deklaracije o zaštiti zdravlja  iz 1978 godine iz Alma Ate.Ovaj najnoviji dokument je proširio broj područja koja obuhvaća ljudsko pravo na zdravl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svibnju 2002 Komitet Ujedinjenih naroda za  ekonomska, socijalna i kulturna prava usvojio je opće tumačenje tog dokumenta (General Comment) koja je potpisalo 145 zemalja.Ovaj Komitet propagira pravo na zdravlje kao sveobuhvatno pravo ne samo na pravovremenu i odgovarajuću zdravstvenu skrb nego i n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Znanstveni progre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:znači pravo svakog pojedinca na odgovarajuću ishranu i pravo da ne bude glad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Privatnost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umači da nitko ne smije biti subjekt svojevoljnog i nezakonitog uplitanja u svoju privat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Standard življenj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: svaki pojedinac ima pravo na odgovarajući životni standard, hranu, vodu ,odjeću, stambeni prostor, zdravu okolinu i medicinsku njeg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Pravo na pristupačnost zdravstvenoj usluz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: svaki pojedinac ima pravo na liječničku njegu te socijalnu zašti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eđusobna ovisnost ljudskih prava i zdravlja vidljiva je u slijedećim oblasti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Nasilj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: nitko ne smije biti predmet nasilja i okrutnosti, atu se posebno podvlači da nitko ne smije biti predmet medicinskih pokusa bez vlastitog pristan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Arial"/>
              </a:rPr>
              <a:t>Nasilje nad djecom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: kategorija djece posebno je zaštićena Konvencijom o pravima djeteta donesene od strane UN, a praktički se provođenje kontrolira putem UNICEF-a.Tim dokumentom djeca se štite od svih formi fizičkog i mentalnog zlostavljanja, zlouporabe, eksploatacije i zanemariv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vatnost: nitko ne smije biti predmet tuđeg uplitanja u privatnost a koje je protiv vol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judska prava  zajamčena s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eđunarodnim standard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aštićena međunarodnim obvez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smjerena na dostojanstvo čovje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jedince, grupe i sve nar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riga o ljudskim pravima  je zvanično utemeljena 1948 godine «Univerzalnom deklaracijom o ljudskim pravima» koja je donesena na razini 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ržave potpisnice su je ratificirale u svojim parlamenti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jam ljudskih prava obuhvata različite sfere i društvenog živ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na obuhvaćaju sve vrijednosti civilnih, kulturoloških, ekonomskih političkih i socioloških prava  koja čuvaju i jamče osobnu, obiteljsku I zajedničku slobodu naro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9:52:35Z</dcterms:created>
  <dc:creator>Vera Danes</dc:creator>
  <dc:description/>
  <dc:language>en-US</dc:language>
  <cp:lastModifiedBy>Vera Danes</cp:lastModifiedBy>
  <dcterms:modified xsi:type="dcterms:W3CDTF">2013-04-05T10:18:36Z</dcterms:modified>
  <cp:revision>9</cp:revision>
  <dc:subject/>
  <dc:title>ZDRAVSTEVENI ODGOJ I LJUDSKA PRAVA</dc:title>
</cp:coreProperties>
</file>