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5C17-5218-4CB6-B3B3-F975D322D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8DAB-4F83-44CC-BE28-4B84B146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CBD5-DE1A-487E-AAC5-F1DAB53D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FA79-68E1-44F8-B3AA-99E751921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080AF-3D67-4768-B890-383D4A6EC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44BC-6500-4AE3-890A-12A08182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179F-B291-49C1-9083-7AF59121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783B-3E1F-4F0F-B732-56A6E74F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E045-E046-4835-A197-F448C0F7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E588-F8EE-42A4-BA34-A3BBF22E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A90F-E090-4DEA-A156-1A95F395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2F61-0BA8-4FC8-B87A-BE5C42AA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1FD1-D1E4-4339-AE6A-7D25A7B0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788C-0D90-4675-836C-EF292F72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54B5-C6CA-4137-830D-57826C16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71E5-5DA0-482B-B824-2045036C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D0E8-3C83-462D-9106-AA551441B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0ECD-EF50-45DA-A245-08097115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2312-D56E-4C09-BACB-65C718F1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94A2-888F-41B2-9EF4-33983AF3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3307-D7AC-4A02-8DEE-9C82021C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7320-A7F5-444D-9FC1-4CCC6B6B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16E5-99F9-46D0-A4E8-46E2758E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7078-EAA6-4F90-A9C0-1A68C8A8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28F4-AEB5-430A-AF41-B372D0BB06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8901-579F-45ED-B70E-5E3A4E28D3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400" spc="-1" strike="noStrike">
                <a:solidFill>
                  <a:srgbClr val="feec94"/>
                </a:solidFill>
                <a:latin typeface="Times New Roman"/>
              </a:rPr>
              <a:t>LJUDSKI ODNOSI I PROCES POMAGANJA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Seksualni se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Mjeri integraciju seksualne energije u psihosocijalnom funkcioniranju, a također sadrži i stavove o seksualnosti, koji su  odraz su osjećanja prema suprotnom spol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Obiteljski se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Izražava osjećanja prema obitelji koja su naročito u razvojnom dobu odlučujuća za psihičko zdravlje.tu se uključuju i obiteljski odnosi koji su odraz osjećanja prema  članovima obitelj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Times New Roman"/>
              </a:rPr>
              <a:t>Socijalni se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Obuhvaća percepciju međuljudskih odnosa, njegove moralne stavove i profesionalno-obrazovne ciljeve koje pojedinac postavlja seb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To uključuje:moralno-etičke  stavove putem kojih se ispoljava razina savjesti pojedinca, zatim socijalni odnosi:mjere objektne odnose i prijateljstv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Nadalje tu spadaju  osnovni životni ciljevi,profesionalno-obrazovni kao što su učenje i planiranje svoje socijalne buduć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Times New Roman"/>
              </a:rPr>
              <a:t>Psihološki sel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odrazumijeva osjećanja, želje, fantazije, brige, način ispoljavanja osjećanja.Tu se radi o pitanju sposobnosti pojedinca da kontrolira svoje impulse, osjećanja i doživljaj slike vlastitog tijel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snovne oblasti samosvijesti s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tijelo i tjeles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vanjski izg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socijalna uloga i položa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aktivnost i ponašan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sihički živ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Slika o seb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Naziva se još i «self-koncept» ili samosvij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Sve ovo označava pojam  pojedinca o samome sebi, poimanje sebe, svoga mjesta u svijetu.U suštini to je uopćeno iskustvo o sebi u različitim pojmovima života i ra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Samosvijest ima dva osnovna izvoriš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iskazi drugih ljudi o osobi, njihovo ponašanje i ophođenje prema toj osob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samopromatranje, samoanaliza i uspoređivanje sebe s drugi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ojedinac  je različitim sponama vezan za  druge ljude i vanjsko okruženje u kojem živi.Pri tome u svom funkcioniranju stupa u različite odnose s drugim ljudima, a kvaliteta tih odnosa u znatnoj mjeri obilježena je osobnošću ličn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ostoji više značajki koje određuju kako će jedna ličnost funkcionirati u svijetu koji je okružuje, koliko će u tome biti više ili manje uspješ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otreba za sigurnošću od djeteta je vrlo vel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Tu je na prvom mjestu majčina ljubav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ostoji značajna razlika izmedju djtetea koje je sigurno u ljubav svojih roditelja i onog koje to nij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Voljeno dijete bit će mnogo sigurnije u životu i njegov self koncept će biti viši u odnosu na dijete koje nije sigurno u ljubav svojih roditel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Druga temeljna potreba djeteta je potreba za osamostaljivanj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roces odvajanja i osamostaljivanja posebice je izražen u adolescentnom dob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Najveće bogatstvo koje mlada osoba može ponijeti u samostalni život jestepozitivna sl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 sebi gardjena ljubavlju roditel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Općenito što je osoba u doba razvoja imala bolju komunikaciju s roditeljima, to je veća mogućnost da se izgradi odgovarajuća slika o seb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Tu bitnu ulogu imaju određeni parametri u konstelaciji obitelji:raspoređenost uloga u obitelji, veličina obitelji, redoslijed rođenja, odsustvo jednog roditelja, zaposlenost majke,osobine i vrijednosti roditelja i njihov način prihvaćanja seb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Emotivni elementi  identiteta čine samopoštovanje, dakle, jača samospoznaja o sebi, te se tako izgrađuje osjećaj kontrole nad svojim životo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Obiteljska klima pospješuje izgradnju samopoštovanja i to na dva način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- ostvarivanjem jasne komunikacije između djeteta i roditel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-putem demokratskog donošenja  odluka unutar obitelji i omogućavanjem izražavanja osjećan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Tako se za dijete predškolske dobi samorazumijevanje temelji  prvenstveno na  fizičkim obilježjima: veličina, spol, vanjski izgled.Uz to dijete doživljava sebe kroz aktivno ponašanje i sposobn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Kasnije, tijekom razvoja djeca  sve više primjećuju svoje mentalne sposobnosti, ideje, želje, što odražava  razvoj apstraktnog mišljenj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Početkom školske dobi djeca se počinju međusobno uspoređivati i starija djeca postaju sposobna definirati sebe na osnovu svojih društvenih odnosa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Utjecaj obitelji na sliku o seb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Slika o sebi se postupno izgrađuje, a sa razvojem se mijenja i obogaćuj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Kognitivni aspekt formiranja identiteta je razvoj samorazumijevanj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Prilagodbeni sel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Pokazuje snagu pojedinca da izađe na kraj sa vanjskim svijetom, koji ga okružuj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Koliko snage osoba ima za to pokazuju slijedeće varijab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-savladavanje frustracija tj. Odražava razinu prilagodbe na vanjske uvj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-psihopatologija  se otkriva različitim psihološkim testovi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-uspješna prilagodba pokazuje koliko je osoba sposobna izaći na kraj  sa samom sobom ali    istovremeno i s vanjskim svijeto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9:00:45Z</dcterms:created>
  <dc:creator>Vera Danes</dc:creator>
  <dc:description/>
  <dc:language>en-US</dc:language>
  <cp:lastModifiedBy>Vera Danes</cp:lastModifiedBy>
  <dcterms:modified xsi:type="dcterms:W3CDTF">2013-04-05T10:45:40Z</dcterms:modified>
  <cp:revision>19</cp:revision>
  <dc:subject/>
  <dc:title>LJUDSKI ODNOSI I PROCES POMAGANJA</dc:title>
</cp:coreProperties>
</file>