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DE4FB-DBDE-4EE2-9461-6592D0EA8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BA00-8EE7-460D-B730-45E673A0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E6B5-4DF6-444E-850C-7F077F9A6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BE7F-7A97-4BD5-BFC2-427ECAC6A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C5E7E-F17A-40B2-8349-4EF7FB7E8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BFEF0-79E9-45EE-8A00-A5BA372AA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EA6DE-2709-4FE0-8C26-4309265A1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C0D5B-60B0-4889-B508-F8256525B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D3AB4-F0E3-4E77-960D-9321FF1BA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225D8-FA43-4189-A13D-AC9EC47BC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25838-1A89-4EA8-ABF4-BAF2E661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6F055-AECF-4A75-9208-47B9E5F5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22C7C-792B-47C3-91DC-0E68A280B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9891-B507-4C6C-9741-C1A5430AB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F5107-1713-4FBC-9ADB-5F75589A8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E3E3D-C327-4A5D-9087-6421EC728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D579D-1499-4138-A106-996855E22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2B57-3D39-4D55-B0AA-3E0FDE0B8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9986E-70FF-4489-AB88-5838E2C1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F9B5-9C64-4480-B3D9-EB135AA94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9A7A-4236-434F-A849-8F287F65C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B303-548E-4C02-862D-63D5E1E7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53A3-2F13-499D-976E-C3E09896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2FE5-231C-46FD-8668-9E509AE3A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EF87-397B-422B-BB26-0B4F63AE873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0DC6-1047-4BF8-8E40-9F5ED0D9B70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REAKCIJA BOLESNIKA NA BOLEST</a:t>
            </a:r>
            <a:endParaRPr b="1" lang="en-US" sz="4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ovi reakcije na bolest</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IVN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KTIVN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GIRAJUĆ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ivna reakcija                                           je prilično realna reakcija i svojstvena u biti svakom čovjek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proizilazi iz činjenice da je obolivši bolesnik lišen mnogih dotadašnjih životnih navika.</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pak većina bolesnika uspješno prebrodi ovu fazu, tj. uspije odložiti svoja zadovoljstav I aktivnost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ktivna reakcija                                           ovoj reakciji skloni su bolesnici koji u svojoj strukturi ličnosti imaju mnogo projektivnih crt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u osobe koje su uvijek bile sklone optuživanju drugih za svoje nevolj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vakako da stpanj projekcije ne mora biti u skladu sa osnovnom bolesti.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jčešće se radi o osobama koje su u djetinjstvu željele biti cijenjene i poštovane, ali su prestrogim odgojem grubo presječene u tome, tako što je njihova djetinja potreba od strane odgajatelja grubo odbačen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irajuća reakcij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d ovih bolesnika nema reakcije zabrinutosti ni potištenosti, kakva se realno može očekivati pri saznanju da je nastupila bole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pače ovi bolesnici mogu  biti ne samo indiferentni nego čak  i malo veseli u odnosu na svoju bole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 pitanju je specifični unutarnji psihički mehanizam obrane </a:t>
            </a:r>
            <a:r>
              <a:rPr b="0" lang="en-US" sz="2800" spc="-1" strike="noStrike">
                <a:solidFill>
                  <a:srgbClr val="ffffff"/>
                </a:solidFill>
                <a:latin typeface="Arial Black"/>
              </a:rPr>
              <a:t>negacija,</a:t>
            </a:r>
            <a:r>
              <a:rPr b="0" lang="en-US" sz="2800" spc="-1" strike="noStrike">
                <a:solidFill>
                  <a:srgbClr val="ffffff"/>
                </a:solidFill>
                <a:latin typeface="Times New Roman"/>
              </a:rPr>
              <a:t> koji  znači nesvjesno i svjesno negiranje bolest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iha ovih bolesnika mobilizirala je svoje potencijale da saznanje o bolesti potisne duboko u nesvjesni dio psihe i na taj način se obran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a reakcija ne smije zavarati medicinsko osoblje, često se naziva “bijeg u zdravlj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bno kod teških, neizlječivih bolesti treba biti oprezan kod ovakvih bolesnika, jer mogu tako svjesno i nesvjesno izbjegavati liječenj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ionalac je dužan prepoznati sve ove reakcije, jer to može znatno doprinijeti ishodu bolest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o što profesionalac treba stalno imati na umu, jeste, da te reakcije  (posebice one paranoidne) nisu upućene njima osobno, nego su  izraz osobenosti strukture ličnosti bolesnika,I  koje zapravo odredjuju koja će vrsta reakcije biti ispoljen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veći se ovim pitanjima medicinari su stalno u prilici razmatrati odnos tjelesno-psihičko.</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z obzira na stručni stupanj, svaki profesionalac se u svom radu prisjeća, svojih sopstvenih emocija kada je bio u ulozi bolesnika</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 tome ne treba zaboraviti i svoje sopstvene strahove od liječnika, medicinskih sestara koje će dati injekciju  i slič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vijek treba imati na umu da bolesnik dolazi po pomoć ne samo sa svojim tijelom i nego i sa svojom psihom.</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lesnik u ordinaciju ulazi sa različitim osjećanjima:povjerenjem, očekivanjem da bude izliječen, da mu se pomogn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ihološki odnos bolesnik liječnik odnosno medicinska sestra  nije jednostavan nego je dapače vrlo slož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sve to jednako se upliće obitelj I rodbina općeni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oznaja da je obolio od neke bolesti budi kod bolesnika izmedju ostalog i neke psihološke reakcij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znavajući pojam “mehanizam obrane” moguće je predpostaviti načine na koji se “Ja” može braniti od lošeg dojma nakon saznanja o bolesti.</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ćina bolesnika u svoju adaptaciju na bolest uključuje one prilagodbene mehanizm,koji im pomažu da psihički prevladaju bolest tj. da ozdra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sklopu ovih razmatranja treba spomenuti I darivanje liječnika i medicinskih sestara od strane bolesnika ili njegove rodb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ionalac se uvijek mora upitati zašto ga bolesnik dariv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je neposredno povezano sa doživljajem bolesnika te profesionalne osob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ivanje se stoga može tumačiti na različite nač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hod reakcije na bolest ovisi od više činilaca: -osobenosti struktura ličnosti bolesnika             -vrsti bolesti ,njenj težini odnosno prognozi     -dobi bolesnika                                                  -od vanjskih okolnosti po kojima bolesnik živ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žno je pri tom kod bolesnika procijeniti:       -doživljaj slike vlastitog tijela                            -doživljaj vlastite slike o seb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lika vlastitog tijela</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 način na koji osoba doživljava svoje vlastito tijelo. To je vrlo bitno za ukupnu psihičku stabiln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a odgovarajući naziv slike o tijelu važan je stav okolin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bilnost i samopuzdanje jedna osobe može se temeljiti na pozitivnoj slici o vlastitom tijel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ka o tijelu utječe na psihički kapacitet , te na sposobnost prilagodb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odjer utječe i na prilagodbu na prirodne tjelesne promjene koje nastaju u pubertet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sobe koje imaju veću sigurnost u svoje tijelo u stanju su na bolest gledati realnij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 tom ne treba izgubiti iz vida realni strah koji izaziva saznanje o bolesti, ali će stabilnije osobe imati i bolju prilagodb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Vlastita slika o sebi</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ka o sebi je subjektivan doživljaj kako osoba smu sebe vidi. To poimanje je krajnje subjektivno i uopće se ne mora poklapati sa slikom koju okolina ima o dotičnoj osob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ga osoba često može biti ugodno ili neugodno iznenadjena spoznajom načina na koji je doživljava njezina okoli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ćina ljudi doživljava sebe u pozitivnom svjetlu, što je povoljno kada je u pitanju bole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oliko će slika o sebi biti bliska stvarnosti ovisi o strukturi lič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d se čovjek razboli bitno je koliko će njegova ličnost biti u stanju prilagoditi se privremenom odricanju od društvenih aktivnosti, svojih težnji, ambicija i plano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ovi reakcije na bolest</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lest sama po sebi prisiljava bolesnika da mijenja svoje ustaljene životne navik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lašen čovjek lako razvija strah od smrti i samim tim lako gubi realan pristup prema svom stanj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vaki čovjek doživljava strah od bolesti pa prema tome dobar liječnik ne liječi samo bolest nego i bolesni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tno je voditi računa šta bolesniku znači bolest, te prema bolesnikovu doživljaju liječnik i medicinsko osoblje trebaju prilagoditi svoj stav.</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ćenito stav profesionalaca treba biti umirujući I pri tom prefesionalac ne treba bježati da bude aktivan u tom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08:13:52Z</dcterms:created>
  <dc:creator>Dr.Danes</dc:creator>
  <dc:description/>
  <dc:language>en-US</dc:language>
  <cp:lastModifiedBy>Vera Danes</cp:lastModifiedBy>
  <dcterms:modified xsi:type="dcterms:W3CDTF">2013-04-05T10:42:53Z</dcterms:modified>
  <cp:revision>2</cp:revision>
  <dc:subject/>
  <dc:title>REAKCIJA BOLESNIKA NA BOLEST</dc:title>
</cp:coreProperties>
</file>