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2C6-32F9-4594-964E-F61951F1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5DF-48A5-4595-9F10-BCF7FBB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DB2-3E66-46CF-BC06-D8AB8CA3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4CB-094F-4320-9BC9-FB4D8DFB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1AFFB-BE5C-45B2-A63D-E5D4061E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842BB-4966-4E38-9C0F-5F6B48F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BDD1-1571-46C6-8B96-FAD33CEE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C011-510C-4623-98C1-557CC01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F2030-2E5E-432D-8286-5C0679F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7C748-0AD6-4FA6-952D-9277526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0DD56-9C08-460B-8223-44C2AE9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036-6DFA-4BB7-8B0F-13CDB591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5457E-6FB1-4841-B317-D2248BC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521C2-9805-47F8-AB67-EBEAAF61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0C7C-E042-451B-8F37-365F01D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8C24-23D7-4549-9C92-E007BB3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96C1-23A0-4E00-86C5-DEB964C4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FAB-516C-4CC5-9405-9E061924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9B3-F9E6-4102-BEDC-12CD992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C0A-6CAF-43B6-A170-E55B6141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5F7-21C8-4553-94A4-92812C2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C4E-F001-4F2A-93CC-385EC7A5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F53-6063-48F2-968C-85898A97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71D-E4FE-44C4-A7FB-85F2C3A4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DAFD-ACAA-49F8-B7E3-494C1F330E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666-2699-483D-9E9F-181E96BD08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SIHOSOMATSKI POREMEĆAJ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sihosomatske boles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 bolesti koje u svojoj osnovi imaju psihički uzrok, a pri tom stradaju različiti, uglavnom vitalni organi kao što su kardiovaskularni, respiratorni,gastrointestinalni, te koža I zglobov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ihosomatske bolesti mogu ustvari mijenjati tj. oslabiti njihovu funkci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iki utjecaj na nastanak psihosomatske bolesti im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čin života / slabo kretanje, nedostak tjelesnog gibanja, pušenje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čin ishrane: pretilost, premalo unošenja minerala i vitam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čina ljubav i pažnja: njezini strahovi, strogost,zabrane,emotivna  hladnoć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as se smatra da je kvaliteta ranog odnosa majka-dijete tzv.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ttach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d presudne važnosti za normalan razvoj ličn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v majke, način na koji pristupa djetetu, je od osnovnog značaja za nastanak psihosomatskog oboljenja.(reakci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oma je bitno majčino aktivno i pasivno prisutvo u odrastanju djeteta, tj- vrijeme koje posvetćuje djete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se ne misli  u prvom redu na količinu  vremena koje posveti djetetu, nego se misli na kvalitetu tog njezinog odnosa s djetet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lo je važna i toaleta djeteta, način na koji ga majka povija,presvlači, kupa, način kako ga dodiruje i hrani, i uopće koliko je ona uspješna što bolje slijediti djetetove potre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e to može značajno doprinijeti nastanku psihosomatsk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je su to bolesti koje se općenito smatraju psihosomatski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rčane bolesti:infarkt miokarda, tahikardija, hipertenzi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astrointestinalne:peptički ulcus,kolitis, obstipacija ili dijare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spiratorne:bronhijalna astma, spastični bronhitis,plućna T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kožne: dermatitis, urtikari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nekološke:amenoreja, dismenoreja,teškoće u menopau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ihosomatske bolesti su rezultat dugotrajnih psihičkih probl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ihički problemi koji dugo traju, mogu postupno remetiti funkcionalnost organa, tako da konačno funkcionalne smetnje dobiju i svoju morfološku formu tj., uslijede fizičke promjene na orga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da se te promjene mogu objektivno registrirati dijagnostičkim metodama te se  tako evidentira  na primjer patološki EKG, rentgenološki vidljiv peptički ulkus, ili vrlo jasno izraženi deformiteti na zglobovim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esto je nemoguće uvjeriti bolesnika da je njegova bolest psihičkog porijek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opet dovodi u pitanje pravovremeno i odgovarajuće liječe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mbinirana od strane liječnika somatičara i psihijatra-psihoterapeu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principu psihosomatske bolesti se teško liječe, ponajviše iz već navedenog razloga odbijanja bolesnika da shvati pravu prirodu svoj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og toga ove bolesti uglavnom imaju kroničan karakter i teško da da dodje do potpunog izliječe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u poremećaji koji se klinički ispoljavaju na somatskom (tjelesnom) planu, ali im je porijeklo psihoge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d ovih poremećaja uvijek postoji klinički nalaz koji se može objektivizir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 primjer: ulcus duodeni,  colitisi,arterijska hipertenzija, na odredjeni način i infarctus myocardii, bronhijalna astma, različiti kožni poremećaji-posebice neurodermitisi  urtikarije, bolovi u zglobovima, kao i odredjeni klinički entiteti u porodiljstv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esnik očekuje od liječnika da će biti liječen kao tjel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i bolesnik, želi medikamente i više ili manje odbija da prihvati psihološki uzrok svoje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rećom liječnici dan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znaju da briga o bolesniku ne završava propisivanjem lijekova, jer je opće važeća suvremena doktrina da se liječi bolesnik a ne bol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ma tome prepoznavanje i liječenje psihosomatskih bolesti je zajednički posao liječnika kliničara i psihijatra psihoterapeu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avno je poznato da sve naveden bolesti imaju u svom nastanku I te kako veze sa psihičkim stanjem bolesn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hanizam nastanka psihosomatskih poremećaja nije sasvim jasan, ali je izvejsno da za ove bolesti postoji jasan psihički uzr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 bi se razumio nastanak psihosomatskog poremećaja, neohodan je  psihodinamički prist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aj pristup omogućava ne samo da se bolest prepoznaje nego i da se na odredjeni način dokuči  uzrok njezina nastan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odjer ovaj pristup omogućava i razlučiti razliku izmedju tjelesnog i psihičko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o se na trenutak vratimo u povijest medicine, vidjet ćemo da je još Hipokrat uočio da na raspoloženje osobe utječu razni tjelesni sokovi, kako je on nazivao tjelesne tekuć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v, limfu žuč, suz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je uočio da je u odredjenim psihičkim stanjima povišeno izlučivanje nekog od ovih sastojaka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odjer Platon i Aristotel vjerovali su da duh upravlja tijelom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lje kroz povijest slijedi mračno doba Srednjeg vijeka, kada se na znanstvenom i umjetničkom planu malo šta dogadjalo sve do razdoblja renesa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da počinje razvoj humanističkih znanosti i potpuno drukčiji pristup razumijevanju stvari kako na znanstvenom tako i na umjetničkom pla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je sada u središtu  pozornosti čovje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iki uzlet razvoja medicinskih znanosti kao I tehnologije, slijedi u XIX stoljeć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to doba se na području psihičkog života smatralo da sve ima svoj prapočetak u kemiji i biologiji, pa je to dovelo da se čovječiji organizam počeo promatrati  mehanički, kao neki fiziokemijski apar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av pristup naravno nije se mogao dugo održ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oznavanje psihičkog uzroka somatskog oboljenja prvi je zapazio zapravo jedan internista sredinom XIX stoljeća Willim Harvy koji je zapisa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o što je važno, jeste čonjenica da afekti kao što su strah, briga,nada, tuga, imaju utjecaja na naše tijelo.U ljutnji oči su zacakljene,u strahu srce jače lupa, a kod srama lice se zacrveni ;pod utjecajem naših želja brzo se može  mijenjati krvni tlak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mund Frojd (Freud) koji je svojim otkrićima o postojanju nesvjesnog života načinio zaokret u shvaćanju nastanka psihičkih poremećaja, takodjer je svojim učenjem osvijetlio put razumijevanju nastanka psihosomatsk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8:41:45Z</dcterms:created>
  <dc:creator>Dr.Danes</dc:creator>
  <dc:description/>
  <dc:language>en-US</dc:language>
  <cp:lastModifiedBy>Vera Danes</cp:lastModifiedBy>
  <dcterms:modified xsi:type="dcterms:W3CDTF">2013-04-05T10:15:52Z</dcterms:modified>
  <cp:revision>8</cp:revision>
  <dc:subject/>
  <dc:title>PSIHOSOMATSKI POREMEĆAJI</dc:title>
</cp:coreProperties>
</file>