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A519A-B351-42E6-9C84-B42DB1D25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2ED45-6D85-46B2-9EB6-5B124913B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BA63D-1D56-4240-9014-326C9F08E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769BF-CC84-4355-BB24-170BC7EF2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45694C-6F3E-4E44-A543-09C0B195F96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D702E5-A2BD-4E4E-B1FB-85D6AB6E6E7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2B328B-DCB9-4490-8098-B9AC01773F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EB053C-197B-4B87-8DF6-874FEC2773F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A5689E-1E34-44EE-B90C-146667CEFE1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D8458E-23C1-4C96-9662-E3E3EFF736A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CAEE53-95B8-40BE-9D52-BC3A112931A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ED34B-ACE2-4770-9DBA-76F877DA5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773462-DFC2-4ABB-8981-3593580F977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821B9A-73AA-44D3-8653-0A830B400C8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5B5D34-1461-4B14-93D3-670094D2AC7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FB75A8-3690-4F2C-B354-8624C0D881E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4A281D-F083-4B3A-8D53-03EADA2A3EE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D17CE-8B69-41C8-918C-CCF4F2672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9A44E-63CC-474C-80CE-2708A3E34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060C0-8122-44B4-A523-E828058AE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30686-C071-4B4E-BBA1-F0BEB780A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6147F-DB55-4EFD-BD63-5A41EB53A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59B86-4652-4273-8BDF-27DBF5283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16C22-5C58-400C-88D6-25EB686F0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9761-3BF4-4018-97E9-C70DCF2463F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130A-96B8-48B9-9C5B-1B171E4BC5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ffffff"/>
                </a:solidFill>
                <a:latin typeface="Tahoma"/>
              </a:rPr>
              <a:t>PSIHIČKA FUNKCIJA</a:t>
            </a:r>
            <a:br>
              <a:rPr sz="4400"/>
            </a:br>
            <a:r>
              <a:rPr b="0" lang="hr-HR" sz="4400" spc="-1" strike="noStrike">
                <a:solidFill>
                  <a:srgbClr val="ffffff"/>
                </a:solidFill>
                <a:latin typeface="Tahoma"/>
              </a:rPr>
              <a:t>PAMĆENJ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ffffff"/>
                </a:solidFill>
                <a:latin typeface="Tahoma"/>
              </a:rPr>
              <a:t>Fiziološko stanje i pamćenj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rimjer za ovo jeste kada čovjek nešto uradi u alkoholiziranom stanju, a kad se otrijezni ne sjeća se.Medjutim, kada se ponovo napije, sjeti se svega.To se zove ovisnost pamćenja « o stanju» (state dependent memory).Ovo važi i za uzimanje nekih opojnih tvari, ali se pri tom manje pamti i uč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Emocije, raspoloženje i pamćenje</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Iako je pamćenje je saznajna (kognitivna) funkcija, ono je ipak povezano i sa stanjem emocija, općeg raspoloženja, trenutačnog afekta.Takodjer se smatra da je  sposobnost pamćenja  povezana i sa osobinama  ličnosti. Pokazalo se i da neki slučajevi  amnezije </a:t>
            </a:r>
            <a:r>
              <a:rPr b="0" lang="hr-HR" sz="1800" spc="-1" strike="noStrike" u="sng">
                <a:solidFill>
                  <a:srgbClr val="ffffff"/>
                </a:solidFill>
                <a:uFillTx/>
                <a:latin typeface="Tahoma"/>
              </a:rPr>
              <a:t>nemaju </a:t>
            </a:r>
            <a:r>
              <a:rPr b="0" lang="hr-HR" sz="1800" spc="-1" strike="noStrike">
                <a:solidFill>
                  <a:srgbClr val="ffffff"/>
                </a:solidFill>
                <a:latin typeface="Tahoma"/>
              </a:rPr>
              <a:t>u pozadini oštećenje mozga.Još je Sigmund Freud pripisivao zaboravljanje emocionalnim faktorima i tu je prvenstveno mislio na depresiju-</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Povezanost  emocija i pamćenja je vrlo složena, pa se sveukupno može svesti na dvije osnove:</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a./ ovisnost o emocionalnom stanju-sjećanje na neki dogadjaj je bolje kad se ponovno nadjemo u istom emotivnom stanju, kao što je bilo ono kada se desio  dogadjaj kojeg se sjećamo.</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b./ podudarnost raspoloženja je pojava da se bolje pamti materijal koji je iste afektivne obojenosti, kao i raspoloženje u kojem se nalazimo u trenutku učenja.Ta pojava ima uzrok u selektivnoj percepciji sadržaj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Bitno je naglasiti da u mentalitetu opće populacije vlada stav da pamćenje s godinama postaje slabij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To ustvari i nije sasvim točno, jer sa biološkim starenjem organizma dolazi i do postupnog pada svih njegovih  funkcija pa tako i pamćenja</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ffffff"/>
                </a:solidFill>
                <a:latin typeface="Tahoma"/>
              </a:rPr>
              <a:t>Dob i pamćenje</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U današnje doba sve je veći udio starih osoba u općoj populaciji-stoga i su istraživanja u pravcu povezanosti pamćenja i starosne dobi  zanimljiva.</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snovni je cilj  istraživanja promjena  u pamćenju pronaći način da se uspori pad u funkcionalnosti pamćenja.S druge strane napredak u znanosti i tehnologiji  zahtijeva takodjer da se kapacitet pamćenja djece i mladih iskoristi maksimalno.</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Istraživanja su pokazala da se sa životnom dobi polako spušta krivulja funkcije pamćenja, mada ona nije iz daleka tako izražena kako se obično misli.</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Tahoma"/>
              </a:rPr>
              <a:t>Gubitak pamćenja preme intenzitetu  označava se kao</a:t>
            </a:r>
            <a:r>
              <a:rPr b="0" lang="hr-HR"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1" lang="hr-HR" sz="2400" spc="-1" strike="noStrike">
                <a:solidFill>
                  <a:srgbClr val="ffffff"/>
                </a:solidFill>
                <a:latin typeface="Tahoma"/>
              </a:rPr>
              <a:t>amnezija</a:t>
            </a:r>
            <a:r>
              <a:rPr b="0" lang="hr-HR" sz="2400" spc="-1" strike="noStrike">
                <a:solidFill>
                  <a:srgbClr val="ffffff"/>
                </a:solidFill>
                <a:latin typeface="Tahoma"/>
              </a:rPr>
              <a:t>-potpuni gubitak sjećanj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1" lang="hr-HR" sz="2400" spc="-1" strike="noStrike">
                <a:solidFill>
                  <a:srgbClr val="ffffff"/>
                </a:solidFill>
                <a:latin typeface="Tahoma"/>
              </a:rPr>
              <a:t>hipomnezija</a:t>
            </a:r>
            <a:r>
              <a:rPr b="0" lang="hr-HR" sz="2400" spc="-1" strike="noStrike">
                <a:solidFill>
                  <a:srgbClr val="ffffff"/>
                </a:solidFill>
                <a:latin typeface="Tahoma"/>
              </a:rPr>
              <a:t>-oslabljeno pamćenje kod demencij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1" lang="hr-HR" sz="2400" spc="-1" strike="noStrike">
                <a:solidFill>
                  <a:srgbClr val="ffffff"/>
                </a:solidFill>
                <a:latin typeface="Tahoma"/>
              </a:rPr>
              <a:t>hipermnezija</a:t>
            </a:r>
            <a:r>
              <a:rPr b="0" lang="hr-HR" sz="2400" spc="-1" strike="noStrike">
                <a:solidFill>
                  <a:srgbClr val="ffffff"/>
                </a:solidFill>
                <a:latin typeface="Tahoma"/>
              </a:rPr>
              <a:t>-pojačano pamćenje na primjer eidetičari</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1" lang="hr-HR" sz="2400" spc="-1" strike="noStrike">
                <a:solidFill>
                  <a:srgbClr val="ffffff"/>
                </a:solidFill>
                <a:latin typeface="Tahoma"/>
              </a:rPr>
              <a:t>paramnezija</a:t>
            </a:r>
            <a:r>
              <a:rPr b="0" lang="hr-HR" sz="2400" spc="-1" strike="noStrike">
                <a:solidFill>
                  <a:srgbClr val="ffffff"/>
                </a:solidFill>
                <a:latin typeface="Tahoma"/>
              </a:rPr>
              <a:t>-to je lažno sjećanje kod demencija, pa se izmišljanjem popunjavaju praznine u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   </a:t>
            </a:r>
            <a:r>
              <a:rPr b="0" lang="hr-HR" sz="2400" spc="-1" strike="noStrike">
                <a:solidFill>
                  <a:srgbClr val="ffffff"/>
                </a:solidFill>
                <a:latin typeface="Tahoma"/>
              </a:rPr>
              <a:t>sjećanj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ffffff"/>
                </a:solidFill>
                <a:latin typeface="Tahoma"/>
              </a:rPr>
              <a:t>Smetnje pamćenj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Mogu se klasificirati  na  tri  načina: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prema prirodi bolest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prema lokalizaciji oštećenja u mozg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prema funkcionalnom otećenj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Tahoma"/>
              </a:rPr>
              <a:t>Ispitivanje pamćenja</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U psihologiji postoji mnogo egzaktnih metoda zs ispitivanje psihičkih procesa.Tako postoje tri načina za ispitivanje pamćenja:</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hr-HR" sz="1800" spc="-1" strike="noStrike">
                <a:solidFill>
                  <a:srgbClr val="ffffff"/>
                </a:solidFill>
                <a:latin typeface="Tahoma"/>
              </a:rPr>
              <a:t>-prepoznavanja</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hr-HR" sz="1800" spc="-1" strike="noStrike">
                <a:solidFill>
                  <a:srgbClr val="ffffff"/>
                </a:solidFill>
                <a:latin typeface="Tahoma"/>
              </a:rPr>
              <a:t>-dosjećanje</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             </a:t>
            </a:r>
            <a:r>
              <a:rPr b="0" lang="hr-HR" sz="1800" spc="-1" strike="noStrike">
                <a:solidFill>
                  <a:srgbClr val="ffffff"/>
                </a:solidFill>
                <a:latin typeface="Tahoma"/>
              </a:rPr>
              <a:t>-metoda uštede</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1.</a:t>
            </a:r>
            <a:r>
              <a:rPr b="1" lang="hr-HR" sz="1800" spc="-1" strike="noStrike">
                <a:solidFill>
                  <a:srgbClr val="ffffff"/>
                </a:solidFill>
                <a:latin typeface="Tahoma"/>
              </a:rPr>
              <a:t>prepoznavanj</a:t>
            </a:r>
            <a:r>
              <a:rPr b="0" i="1" lang="hr-HR" sz="1800" spc="-1" strike="noStrike">
                <a:solidFill>
                  <a:srgbClr val="ffffff"/>
                </a:solidFill>
                <a:latin typeface="Tahoma"/>
              </a:rPr>
              <a:t>e</a:t>
            </a:r>
            <a:r>
              <a:rPr b="0" lang="hr-HR" sz="1800" spc="-1" strike="noStrike">
                <a:solidFill>
                  <a:srgbClr val="ffffff"/>
                </a:solidFill>
                <a:latin typeface="Tahoma"/>
              </a:rPr>
              <a:t>-predmet koji smo jednom opazili-percipirali pohranjujemo u pamćenju i kad ga ponovo vidimo prepoznajemo ga.To se dogadja na osnovu prethodnog iskustva o značenju tog predmeta.</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2.</a:t>
            </a:r>
            <a:r>
              <a:rPr b="1" lang="hr-HR" sz="1800" spc="-1" strike="noStrike">
                <a:solidFill>
                  <a:srgbClr val="ffffff"/>
                </a:solidFill>
                <a:latin typeface="Tahoma"/>
              </a:rPr>
              <a:t>sjećanje</a:t>
            </a:r>
            <a:r>
              <a:rPr b="0" lang="hr-HR" sz="1800" spc="-1" strike="noStrike">
                <a:solidFill>
                  <a:srgbClr val="ffffff"/>
                </a:solidFill>
                <a:latin typeface="Tahoma"/>
              </a:rPr>
              <a:t> ili reprodukcija materijala, može biti ciljano se sjetiti se nečega ili spontano kad sjećanja naviru.</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ahoma"/>
              </a:rPr>
              <a:t>3.</a:t>
            </a:r>
            <a:r>
              <a:rPr b="1" lang="hr-HR" sz="1800" spc="-1" strike="noStrike">
                <a:solidFill>
                  <a:srgbClr val="ffffff"/>
                </a:solidFill>
                <a:latin typeface="Tahoma"/>
              </a:rPr>
              <a:t>metoda uštede</a:t>
            </a:r>
            <a:r>
              <a:rPr b="0" lang="hr-HR" sz="1800" spc="-1" strike="noStrike">
                <a:solidFill>
                  <a:srgbClr val="ffffff"/>
                </a:solidFill>
                <a:latin typeface="Tahoma"/>
              </a:rPr>
              <a:t>-kad hoćemo se nečega se sjetiti, a ne možemo, onda to ponovo učimo.Ali, to ponovno učenje sada ide znatno brže, jer se ustvari sjećanje obnavlja.Takodjer je potrebno kraće vrijeme da to zapamtim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Zgodna ilustracija za ovo je:dobar pamtitelj pamti  sve brojeve, biznismen takodjer dobro pamti brojke, ali na drugi način:on «snima» sve brojeve, ali pri tom razmišlja kako će sve to pretvoriti u profit tj. to čime raspolaže kako će  okrenuti u svoju koris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Postavlja se pitanje da li izuzetni pamtitelji imaju  u osnovi iste sposobnosti pamćenja kao i ostali ljudi Došlo se do zaključka da su temeljne sposobnosti podjednake, samo je način korišćenja drukčij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Kad to ne bi bilo tako u glavi bi se stvorila zbrka od brojnih u je vrlo očigledan primjer tzv. «rasijanog profesora».Radi se obično o istraživačima, znanstvenicima, koji barataju velikim brojem podataka.</a:t>
            </a:r>
            <a:endParaRPr b="0" lang="en-US" sz="2800" spc="-1" strike="noStrike">
              <a:solidFill>
                <a:srgbClr val="ffffff"/>
              </a:solidFill>
              <a:latin typeface="Tahoma"/>
            </a:endParaRPr>
          </a:p>
          <a:p>
            <a:pPr marL="312120" indent="-31212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Zbog te brojnosti često ih nisu u stanju rasporediti, pa te osobe ostavljaju dojam konfuznosti.</a:t>
            </a:r>
            <a:endParaRPr b="0" lang="en-US" sz="2800" spc="-1" strike="noStrike">
              <a:solidFill>
                <a:srgbClr val="ffffff"/>
              </a:solidFill>
              <a:latin typeface="Tahoma"/>
            </a:endParaRPr>
          </a:p>
          <a:p>
            <a:pPr marL="312120" indent="-31212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Kada se radi o velikoj količini podataka, pogotovo ako su oni visoke složenosti, tada ni najučenija osoba ih nije u stanju držati u glavi i javlja se konfuznost.Zato je neobično važna dobra organizacija čuvanja podataka</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Takodjer medju ljudima postoje i oni koji dobro pamte slike-</a:t>
            </a:r>
            <a:r>
              <a:rPr b="1" lang="hr-HR" sz="3200" spc="-1" strike="noStrike">
                <a:solidFill>
                  <a:srgbClr val="ffffff"/>
                </a:solidFill>
                <a:latin typeface="Tahoma"/>
              </a:rPr>
              <a:t>eidetičari</a:t>
            </a:r>
            <a:r>
              <a:rPr b="0" lang="hr-HR" sz="3200" spc="-1" strike="noStrike">
                <a:solidFill>
                  <a:srgbClr val="ffffff"/>
                </a:solidFill>
                <a:latin typeface="Tahoma"/>
              </a:rPr>
              <a:t>.Oni imaju «fotografsko pamćenje» za slike , prizore, Ovo pamćenje  traje duže  nego senzorno, ali ipak ima ograničeno vrijeme trajanja.</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Istraživanja su pokazala da  su osobe s jakim pamćenjem su djetinjstvu mnogo učile mahanički, a manje selektivno</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AKO POBOLJŠATI SVAKODNEVNO PAMĆENJ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Četiri su vrste  postupka:</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1.-odredjeni način prehrane, bogat vitalnim sastojcima, da se spriječi propadanje moždanih stanica.</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2.konzumiranje odgovarajućih vitamina</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3.korišćenje tzv. unutarnjih pomagala u ponašanju: uvijek ostavljati stvari na </a:t>
            </a:r>
            <a:r>
              <a:rPr b="0" lang="hr-HR" sz="2000" spc="-1" strike="noStrike" u="sng">
                <a:solidFill>
                  <a:srgbClr val="ffffff"/>
                </a:solidFill>
                <a:uFillTx/>
                <a:latin typeface="Tahoma"/>
              </a:rPr>
              <a:t>isto</a:t>
            </a:r>
            <a:r>
              <a:rPr b="0" lang="hr-HR" sz="2000" spc="-1" strike="noStrike">
                <a:solidFill>
                  <a:srgbClr val="ffffff"/>
                </a:solidFill>
                <a:latin typeface="Tahoma"/>
              </a:rPr>
              <a:t> mjesto, ono što se treba obaviti uraditi odmah, a to će nas i podsjetiti na zadaću koju treba obaviti.</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pćenito dobrim planiranjem se mogu prilično uspješno izbjeći omašk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4.-korišćenje vanjskih pomagala kao što je vezanje čvora na maramici, uporaba mikroračunala koja imaju alarm ili navijanje običnog sta kao podsjetnik za neki termin</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amćenje se nepreikidno mora mijenjati prilagodjavati tekućim  uvjetima u kojima osoba funkcionira</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Selektivno pamćenje</a:t>
            </a:r>
            <a:r>
              <a:rPr b="0" lang="hr-HR" sz="2800" spc="-1" strike="noStrike">
                <a:solidFill>
                  <a:srgbClr val="ffffff"/>
                </a:solidFill>
                <a:latin typeface="Tahoma"/>
              </a:rPr>
              <a:t> omogućava da osoba pravi odabir informacija koje će pamtiti, prema kriteriju značaja tih informacija  za nju u tom momentu.</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Tahoma"/>
              </a:rPr>
              <a:t>Pamćenje potpomognuto izvana</a:t>
            </a:r>
            <a:r>
              <a:rPr b="0" lang="hr-HR" sz="2800" spc="-1" strike="noStrike">
                <a:solidFill>
                  <a:srgbClr val="ffffff"/>
                </a:solidFill>
                <a:latin typeface="Tahoma"/>
              </a:rPr>
              <a:t> sadrži pomoćne manevre kao što su zapisivanje informacija, pohranjivanje u računalu, DVD, video i audio vrpci i slično.Naravno da pohranjivanje informacija mora biti dobro organizirano, da bi uopće bilo upotrebljivo i dostupno u svakom trentku kada zatreb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Zbog toga se pamćenje može, naravno iz didaktičkih razloga podijeliti na dva način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1.selektivno pamćenj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         </a:t>
            </a:r>
            <a:r>
              <a:rPr b="0" lang="hr-HR" sz="3200" spc="-1" strike="noStrike">
                <a:solidFill>
                  <a:srgbClr val="ffffff"/>
                </a:solidFill>
                <a:latin typeface="Tahoma"/>
              </a:rPr>
              <a:t>2.pamćenje potpomognuto izva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Teško je pamtiti toliki broj informacija i operirati s njima.Da bi ipak mogao operirati s tolikim brojem  informacija, čovjek mora odvojiti najbitnije od manje bitnih do ne bitnih.</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rirodno je da se  najprije pamte informacije  koje su najvažnije i najpotrebnije</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Pamćenje suvremnog čovjeka znatno se razlikuje od pamćenja čovjeka ranijih epoha.</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Tahoma"/>
              </a:rPr>
              <a:t>Razlog tomu je da su dostignuća znanosti i tehnologije i uoće tekovina današnje civilzacije dosegla razinu da mozak prosječnog čovjeka prima mnogo više informacija nego je to bilo u prošlosti</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Rastresenost je i generalna osobina-postoji visoka povezanost medju različitim vrstama rastresenosti.Rastresenost kao: </a:t>
            </a: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1.) kognitivni propust rezultat je preopterećenosti kognitivnog kapaciteta informacijama.zatim slijedeći uzrok je </a:t>
            </a:r>
            <a:endParaRPr b="0" lang="en-US" sz="2800" spc="-1" strike="noStrike">
              <a:solidFill>
                <a:srgbClr val="ffffff"/>
              </a:solidFill>
              <a:latin typeface="Tahoma"/>
            </a:endParaRPr>
          </a:p>
          <a:p>
            <a:pPr marL="325800" indent="-3258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2) povećena osjetljivost na stres-osobe koje imaju snižen prag reakcije na stres, pokazuju veću razinu rastresenosti.Razlog je što se veći dio psihičke energije troši na savladjivanje stresa</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Rastresenost je čest kognitivni propust, u vidu poremećaja pažnje i pamćenja kao zaboravljanje.Ova je osobina vrlo rasprostranjena u svakodnevnom životu, počev od viceva s rasijanim profesorima do zaljubljenih.Medjutim, ova osobina u nekim situacijam može postati pogubna mana-premorenost kod vozača, kontrolora leta, ili znanstvenika koji rade s opasnim materijalom.U sklopu rastresenosti mogu se razlikovati pogreške i omaške.U čemu je razlika:</a:t>
            </a:r>
            <a:endParaRPr b="0" lang="en-US" sz="2000" spc="-1" strike="noStrike">
              <a:solidFill>
                <a:srgbClr val="ffffff"/>
              </a:solidFill>
              <a:latin typeface="Tahoma"/>
            </a:endParaRPr>
          </a:p>
          <a:p>
            <a:pPr marL="335880" indent="-3358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Kod pogreške</a:t>
            </a:r>
            <a:r>
              <a:rPr b="0" lang="hr-HR" sz="2000" spc="-1" strike="noStrike" u="sng">
                <a:solidFill>
                  <a:srgbClr val="ffffff"/>
                </a:solidFill>
                <a:uFillTx/>
                <a:latin typeface="Tahoma"/>
              </a:rPr>
              <a:t> plan</a:t>
            </a:r>
            <a:r>
              <a:rPr b="0" lang="hr-HR" sz="2000" spc="-1" strike="noStrike">
                <a:solidFill>
                  <a:srgbClr val="ffffff"/>
                </a:solidFill>
                <a:latin typeface="Tahoma"/>
              </a:rPr>
              <a:t> za neki posao nije bio dobar, a kod omaške </a:t>
            </a:r>
            <a:r>
              <a:rPr b="0" lang="hr-HR" sz="2000" spc="-1" strike="noStrike" u="sng">
                <a:solidFill>
                  <a:srgbClr val="ffffff"/>
                </a:solidFill>
                <a:uFillTx/>
                <a:latin typeface="Tahoma"/>
              </a:rPr>
              <a:t>postupak</a:t>
            </a:r>
            <a:r>
              <a:rPr b="0" lang="hr-HR" sz="2000" spc="-1" strike="noStrike">
                <a:solidFill>
                  <a:srgbClr val="ffffff"/>
                </a:solidFill>
                <a:latin typeface="Tahoma"/>
              </a:rPr>
              <a:t> pri realizaciji plana nije bio dobar.Naravno da su u stvarnosti moguća oba propusta istovremeno.</a:t>
            </a:r>
            <a:endParaRPr b="0" lang="en-US" sz="2000" spc="-1" strike="noStrike">
              <a:solidFill>
                <a:srgbClr val="ffffff"/>
              </a:solidFill>
              <a:latin typeface="Tahoma"/>
            </a:endParaRPr>
          </a:p>
          <a:p>
            <a:pPr marL="335880" indent="-3358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Najčešće su omaške u govoru, «lapsus linguae» i u pisanju «lapsusu calami», te tzv. omaške u akciji kada se poremeti redoslijed neke operacije.Na primjer: sipamo vodu u kadu, a zaboravimo začepiti </a:t>
            </a:r>
            <a:endParaRPr b="0" lang="en-US" sz="2000" spc="-1" strike="noStrike">
              <a:solidFill>
                <a:srgbClr val="ffffff"/>
              </a:solidFill>
              <a:latin typeface="Tahoma"/>
            </a:endParaRPr>
          </a:p>
          <a:p>
            <a:pPr marL="335880" indent="-3358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ahoma"/>
              </a:rPr>
              <a:t>odvod vod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ffffff"/>
                </a:solidFill>
                <a:latin typeface="Tahoma"/>
              </a:rPr>
              <a:t>Pamćenje za pospremljene stvari</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stoji čitav niz primjera za ovu vrstu zaboravljanja.To je na primjer situacija, kada ne možemo u kući pronaći sezonsku garderobu, jednostavno znamo da smo je negdje spremili, ali ne znamo gdje.Slično je sa traženjem rezervnog kjluča po kući, stvar koju smo spremili na sigurno, a onda se ni sami ne možemo sjetiti gdje.Radi se o stvarima koje smo željeli dobro osigurati.</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Razlog ovome jeste, što je uvriježeno mišljenje da se bolje pamte bizarna mjesta, ali znanstvenici tvrde da nije baš tako.Ustvari, znanstvenici su utvrdiili da u našem pamćenju imamo bolje kodove za pamćenje uobičajenih mjesta, nego bizarnih.Kad se govori o bizarnom mjestu, uvijek se pamti  da je to bizarno mjesto, ali ne </a:t>
            </a:r>
            <a:r>
              <a:rPr b="0" lang="hr-HR" sz="2400" spc="-1" strike="noStrike" u="sng">
                <a:solidFill>
                  <a:srgbClr val="ffffff"/>
                </a:solidFill>
                <a:uFillTx/>
                <a:latin typeface="Tahoma"/>
              </a:rPr>
              <a:t>koje</a:t>
            </a:r>
            <a:r>
              <a:rPr b="0" lang="hr-HR" sz="2400" spc="-1" strike="noStrike">
                <a:solidFill>
                  <a:srgbClr val="ffffff"/>
                </a:solidFill>
                <a:latin typeface="Tahoma"/>
              </a:rPr>
              <a:t> je to mjest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ffffff"/>
                </a:solidFill>
                <a:latin typeface="Tahoma"/>
              </a:rPr>
              <a:t>Blok pamćenja</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Znači situaciju kada se u jednom trenutku ne možemo sjetiti nekog pojma, koji nam je inače dobro poznat, kad nam je «riječ na vrh jezika» ali je se ne možemo sjetiti.Smatra se da umor i stres pogoduju takvoj pojavi.Češće se javlja kod osoba starije dobi, ali je isto tako zapažena i kod djece u vrtićim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fontScale="87000"/>
          </a:bodyPr>
          <a:p>
            <a:pPr marL="298440" indent="-2984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ffffff"/>
                </a:solidFill>
                <a:latin typeface="Tahoma"/>
              </a:rPr>
              <a:t>Svakodnevno pamćenje</a:t>
            </a:r>
            <a:endParaRPr b="0" lang="en-US" sz="2400" spc="-1" strike="noStrike">
              <a:solidFill>
                <a:srgbClr val="ffffff"/>
              </a:solidFill>
              <a:latin typeface="Tahoma"/>
            </a:endParaRPr>
          </a:p>
          <a:p>
            <a:pPr marL="298440" indent="-2984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Ovaj vid pamćenja počeo se  značajnije istraživati  šezdestih godina prošlog stoljeća, kada psihologija kao znanost izlazi iz laboratorijskog pokusa u stvarni život.Laboratorijska saznanja nisu lako promjenjiva u stvarnosti.</a:t>
            </a:r>
            <a:endParaRPr b="0" lang="en-US" sz="2400" spc="-1" strike="noStrike">
              <a:solidFill>
                <a:srgbClr val="ffffff"/>
              </a:solidFill>
              <a:latin typeface="Tahoma"/>
            </a:endParaRPr>
          </a:p>
          <a:p>
            <a:pPr marL="298440" indent="-2984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Evo jasnog primjera: kada učenik uči lekciju iz nekog predmeta teško je objektivno odrediti koliko je naučio za ocjenu koju želi dobiti.Pokazalo se da je mnogo lakše procijeniti znanje iz prirodnih znanosti nego iz društvenih.Kod ovih drugih veća je mogućnost da precijenimo svoje znanje, zbog više široko korišćenih pojmova.Za niz takvih pojmova imamo osjećaj da ih znamo, ali ih je teško definirati.Ako se sretnemo s nekom riječi iz prirodnih znanosti , lako prepoznajemo da je  ne znamo od prije, a kod društvenih znanosti nam se pojmovi uvijek čine lakše prepoznatljivi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ffffff"/>
                </a:solidFill>
                <a:latin typeface="Tahoma"/>
              </a:rPr>
              <a:t>Socijalno pamćenje</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ostoje dvije vrste znanja: ono koje sami posjedujemo i znanje o tome gdje možemo naći informaciju. (Samuel Johnson).Suvremanij definicija ovakvog  znanja jeste da više osoba , tj. jedna skupina ljudi pamti isti dogadjaj.</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Paden (1990) navodi da su jezici naroda temelj kolektivnog pamćenja.Jezici koji  umiru ili su umrli odnose sa sobom u zaborav i dio prošlosti toga narod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Tahoma"/>
              </a:rPr>
              <a:t>Smatra se da je pamćenja grupe superiorno u odnosu na pamćenje pojedinca.U svakom slučaju socijalno pamćenje je vrlo složena pojava.Treba zapamtiti, takodjer, da je i  svakodnevno pamćenje takodjer socijalna pojava, i oni su na neki način neraskidivo povezani</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ffffff"/>
                </a:solidFill>
                <a:latin typeface="Tahoma"/>
              </a:rPr>
              <a:t>Situacija i pamćenje</a:t>
            </a:r>
            <a:endParaRPr b="0" lang="en-US" sz="2800" spc="-1" strike="noStrike">
              <a:solidFill>
                <a:srgbClr val="ffffff"/>
              </a:solidFill>
              <a:latin typeface="Tahoma"/>
            </a:endParaRPr>
          </a:p>
          <a:p>
            <a:pPr marL="329040" indent="-329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Tahoma"/>
              </a:rPr>
              <a:t>Najbolji primjer kako ponovljena situacija vraća u pamćenje neki dogadjaj jeste, kada policija dovede svjedoka nekog kriminalnog djela na lice mjesta gdje se to odigralo, i svjedok se lakše prisjeti.Pri tom se svjedok često sjeti detalja, kojih do tada nije bilo u sjećanju.Ovo ima svoju znanstvenu podlogu.Naime, informacije za dobro snalaženje u nekoj situaciji treba učiti baš u toj situaciji.Primjer za to bi bilo da učenje vožnje treba provoditi kad je promet najgušći</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6T18:19:56Z</dcterms:created>
  <dc:creator>Vera Danes</dc:creator>
  <dc:description/>
  <dc:language>en-US</dc:language>
  <cp:lastModifiedBy>Vera Danes</cp:lastModifiedBy>
  <dcterms:modified xsi:type="dcterms:W3CDTF">2013-04-05T10:16:43Z</dcterms:modified>
  <cp:revision>25</cp:revision>
  <dc:subject/>
  <dc:title>PSIHIČKA FUNKCIJA PAMĆENJE</dc:title>
</cp:coreProperties>
</file>