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426EE-6284-4271-803F-A38219246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BC8A-BF6F-4F28-943F-257283562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04EA1-81A1-47F0-8925-345AA8AE9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B0839-A3BE-4BB4-8153-0C912F65A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34F7B0-FA3B-41F9-8FB0-331DA8982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9373D79-EBF0-43D7-8320-396291E3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43F90F-D42F-4807-BDC4-F73E0227D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BC3B53-F4CD-4F48-8BD8-C0378E790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3EADEF-EBE0-4843-A6D2-A298F55D9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4CEC24-883C-491B-9E60-929B3DF80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4CA57C-26A5-4428-BFFC-8C696A523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B0EC-E94A-4E3A-8E6E-18B472633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36D6E7-05E3-4190-A1FA-347881AB2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26D47F-51DB-4E48-9CBF-6DBA7F80C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E0F17A-BE67-4E01-854E-92C9F7186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BC0E395-F8B1-48C0-9241-385800811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F8C3AAC-9725-42B7-8324-C2277B418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933BA-2241-4CDD-A4C3-D38F448A3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89BB9-13B7-4ED1-ACE7-2D51F875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FA81-9E00-44EC-BD9B-FEDF29092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AAB0E-F81D-4CDC-A292-50AF09D53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C520-C9BB-4209-89CC-FFBE5FC0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CF3B-F734-4006-81FB-61CF41AE4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2692E-5626-4EE6-9439-B0C1F76CD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95CB-2995-49FF-A7CC-683430C5F2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D3A7-A4EC-4AF4-8FC4-05F741DEEA2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57360"/>
            <a:ext cx="822960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e3e3ff"/>
                </a:solidFill>
                <a:latin typeface="Arial"/>
              </a:rPr>
              <a:t>ETIČKI ASPEKTI ZDRAVSTVENOG OBRAZOVANJA</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Castellar"/>
              </a:rPr>
              <a:t>Medicina i etik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Hipokrat i njegova misao o humanom smislu i svrsi  liječničkog poziva, ne obvezuje samo liječnike nego je to etička sfera kojom su obuhvaćeni svi, koji po svojoj profesionalnoj opredijeljenosti pripadaju zdravstvenoj djelatnost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U Hipokratovoj zakletvi sadržan je odnos između medicine i društva, a iznad svega je apostrofirana humanost liječničkog poziva, tj. bezrezervna predanost liječenju ljudi</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Misao Zbignjeva Szawarsko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r>
              <a:rPr b="0" lang="hr-HR" sz="3200" spc="-1" strike="noStrike">
                <a:solidFill>
                  <a:srgbClr val="ffffff"/>
                </a:solidFill>
                <a:latin typeface="Arial"/>
              </a:rPr>
              <a:t>zlo počinje u momentu kada materijalna pitanja za zdravstvenog djelatnika postaju znatno važnija od njegovih moralnih i profesionalnih dužnosti</a:t>
            </a:r>
            <a:r>
              <a:rPr b="0" lang="en-US" sz="3200" spc="-1" strike="noStrike">
                <a:solidFill>
                  <a:srgbClr val="ffffff"/>
                </a:solidFill>
                <a:latin typeface="Arial"/>
              </a:rPr>
              <a:t> </a:t>
            </a:r>
            <a:r>
              <a:rPr b="0" lang="hr-HR"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Najteža povreda  ovih načela medicinska etike, bio  bi prisilni pokus na ljudima, kao vid provjeravanja znanstvenih metoda.To je dozvoljeno samo u slučajevima ako je to biološki i medicinski opravdano, pri čemu osoba koja je podvrgnuta ispitivanju  svjesna značaja pokusa i mogućih posljedica.Pri tom se naglašava da je podvrgavanje takvim pokusima apsolutno na dobrovoljnoj baz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Takvi zahvati se sprovode obično uz pismenu suglasnost onoga koji je pristao na pokus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On nikada neće svoje znanje upotrijebiti protivno principima svoje savjesti, i konačno on osobnim primjerom dokazuje svoju odanost tim principima</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Kodeks etike zdravstvenog djelatnika je obvezujući za sve koji se tim poslom bave.Zdravstveni djelatnik, naime, svoj posao mora obavljati na najbolji način kako u njegova stručnost i stupanj edukacije nalaž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Neki zdravstveni edukatori će za sebe reći da su savršen primjer  za zdravo življenje, ali bi oni pri tome morali trebali imati dovoljno profesionalne odgovornosti i razmotriti vlastito zdravlj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Objašnjenje za to je vrlo jednostavno: klijenti i bolesnici mnogo bolje prihvaćaju pomoć i savjete zdravstvenih djelatnika koji su i sami dobar primjer za ono što s preporuč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Kodeks etike zdravstvenog djelatnika je obvezujući za sve koji se tim poslom bave.Zdravstveni djelatnik, naime, svoj posao mora obavljati na najbolji način kako u njegova stručnost i stupanj edukacije nalažu.On nikada neće svoje znanje upotrijebiti protivno principima svoje savjesti, i konačno on osobnim primjerom dokazuje svoju odanost tim principima</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lijedeća nepodudarnost jeste  kad je sloboda pojedinca u koliziji s interesima veći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lustrativan primjer za to jeste zabrana pušenja na javnim mjestim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Takodjer osjetljivo etičko pitanje jeste situacija kada je zdravstveni djelatnik pušač, a profesionalno ukazuje na štetnost pušenja</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kad je stručno mišljenje u suprotnosti sa mišljenjem javnost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Za ovo može poslužiti primjer sa dodavanjem fluora u pitku vodu.Takva se situacija  se desila u Engleskoj kada su stomatolozi preporučili da se u vodu dodaje fluor za zaštitu zuba, a roditelji su se pobunili, jer je to imalo štetan učinak na općenito zdravlje populacij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Tu se vidi kako se mogu razlikovati stručni stavovi i stavovi javnosti, koja ne može shvatiti opravdanost nekih stručnih mjer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Radeći svoj posao zdravstveni edukator često nailazi na pitanja etičke prirode. Jedno prvih jeste da sugerirajući i sprovodeći edukaciju stanovništva, on svoje klijente stavlja u situaciju da se odriču nekih svojih dotadašnjih navika življenj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To opet zadire u područje ljudskih prav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Također postoji mnogo slučajeva u praksi kad se zdravstveni edukator susreće sa različitim dilema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ffffff"/>
                </a:solidFill>
                <a:latin typeface="Arial"/>
              </a:rPr>
              <a:t>zdravstveni edukator trebao bi biti dobar primjer</a:t>
            </a:r>
            <a:r>
              <a:rPr b="0" lang="hr-HR" sz="3200" spc="-1" strike="noStrike">
                <a:solidFill>
                  <a:srgbClr val="ffffff"/>
                </a:solidFill>
                <a:latin typeface="Arial"/>
              </a:rPr>
              <a:t>  za ono što propagira, te je zato pitanje njegova zdravstvenog ponašanja pod posebnom lupom društva, kako korisnika tako I stručnih subjekata. Kao primjer  neka posluže neki navike u njegovom ponašanju : (ne bi trebao pušiti,  trebao bi  redovito vježbati i održavati zavidnu kondiciju,  te također trebao bi imati primjerenu tjelesnu težin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Veći dio tradicionalne medicinske edukacije ima za cilj promijeniti ponašanje pojedinca u smislu zdravijeg načina življenja.To bi značilo promijeniti kod ljudi stavove  prema zdravlju uopće , kako bi se lakše uklopili u svoju životnu sredinu.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S druge strane u najširem smislu, društvo u cjelini ne čini još uvijek dovoljno da bi te promjene stavova kod ljudi mogle biti realizirane.Drugim riječima, još uvijek nedostaje sustavni pristup načinu kako naučiti i učiti ljude da okruženje u kojem žive pretvore u zdravije mjesto za život</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Svaka stručna aktivnost kojom se pokušava utjecati na život drugih ljudi sadrži i  određena etička pitanja za stručnu osobu koja tu aktivnost provod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Tu se postavlja pitanje da li pokušaj da se ljudi navedu da zdravije žive ima u sebi i izvjesnu stresogenu komponent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Ovo je pitanje koje može proizvesti ozbiljne etičke dileme kod zdravstvenih edukator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Etički aspekti zdravstvene edukacij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Arial"/>
              </a:rPr>
              <a:t>svaka stručna aktivnost kojom se pokušava utjecati na život drugih ljudi sadrži u sebi određena etička pitanja za stručno lice koje je provodi</a:t>
            </a:r>
            <a:r>
              <a:rPr b="0" i="1" lang="hr-H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Koje pravo (ako ga ima) ima sestra da pokušava utjecati na klijent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Da li pokušaj da se ljudi nagovore da prihvate zdraviji način življenja utječe da razviju osjećaj krivice i dožive stresno  stanj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Koje zdravstvene poruke treba objaviti, uzevši u obzir izglednost za promjenu mišljenja kod klijen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Treba spomenuti i pitanje legalizacije pobačaja, što u nekim zemljama predstavlja težak društveni problem, jer  pojedini društveni subjekti imaju oštro suprotstavljena mišljenja, kao što su na primjer medicina i crkva.U nekim zemljama vodi se pravi rat između zastupnika suprotstavljenih glediš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U pitanja medicinske etike također spada i donacija organa, što je ustvari rezultat velikog tehnološkog napretka medicine i mogućnosti uspješnog presađivanja organ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U različitim zemljama uglavnom se vodi ista politika da se donacija obavljaju strogo pod kontrolom društva odnosno zakona.Tako je obvezujuće i moguće potpuno poštivanje medicinskih pravnih i etičkih propisa</a:t>
            </a:r>
            <a:r>
              <a:rPr b="0" lang="en-US" sz="2800" spc="-1" strike="noStrike">
                <a:solidFill>
                  <a:srgbClr val="ffffff"/>
                </a:solidFill>
                <a:latin typeface="Arial"/>
              </a:rPr>
              <a:t> </a:t>
            </a:r>
            <a:r>
              <a:rPr b="0" lang="hr-HR"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važno područje medicinske etike jeste pitanje eutanazije, jer to je područje gdje vrlo lako može doći do zlouporabe medicinskog znanja.Zbog toga se takva osjetljiva etička pitanja rješavaju putem tzv. etičkih povjerenstava etabliranim u medicinskim institucijama.Tu je liječnički konzilij tijesno povezan sa predstavnicima šireg društvenog subjekta kao što su sociolozi, vjerski službenici, predstavnici političkih struktura i drugi</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Suvremena medicina zahtijeva da  društvo u cjelini aktivno sudjeluje u sprječavanju širenja, liječenju i oporavku od bolesti, ali i u poštivanju etičkih princip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To se postiže tako da se putem različitih programa  pučanstvo kontinuirano educira u pogledu postizanja što višeg stupnja zdravstvene kultu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iječnik i zdravstveni djelatnik su  obavezni čuvati liječničku tajnu, jer bi u protivnom problem medicinske prirode mogao dobiti i širu socijalnu dimenziju</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Kod nedovoljno educiranih profesionalaca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Četo postoji nedovoljna osjetljivost za ovo osjetljivo područj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Što nalaže medicinska etik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iječnik i svaki drugi zdravstveni djelatnik prema svojoj stručnoj osposobljenosti dužan je pružiti pomoć, bez obzira o kome se radilo i bez obzira na formalna obilježja čovjek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To znači za zdravstvenog djelatnika jedina je vodilja pomoći bolesnom, bez obzira da li se radilo o bogatašu ili beskućniku, bijelcu ili crncu, pripadniku ovog ili onog naroda, teisti ili ateisti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5:53:07Z</dcterms:created>
  <dc:creator>Vera Danes</dc:creator>
  <dc:description/>
  <dc:language>en-US</dc:language>
  <cp:lastModifiedBy>Vera Danes</cp:lastModifiedBy>
  <dcterms:modified xsi:type="dcterms:W3CDTF">2013-04-05T10:08:48Z</dcterms:modified>
  <cp:revision>24</cp:revision>
  <dc:subject/>
  <dc:title>ETIČKI ASPEKTI ZDRAVSTVENOG OBRAZOVANJA</dc:title>
</cp:coreProperties>
</file>