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B2CF6-E6F2-425C-86EC-D529B5C2C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22CFE-953D-472E-85F4-E11374425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0622F-7376-41B1-9782-395AF7449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64277-C1CF-4DD6-B18A-2E396787B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65687-E584-4D5E-857A-B55B645F2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703EC-87C0-4A46-B783-6C187BC6C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C6DCE-DC8E-49FA-B05A-73DD7BEEE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DF035-1A9C-4DFD-BB2E-3EE3045B7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DF57A-93FD-4F4F-BF34-C9C22DA82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860D4-690A-483B-A885-0EBCF429B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86934-52CE-4BCD-82AB-2D75BE95B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4B21B-8C34-4C1B-81A7-63EBCA73E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74689-EA6C-41BB-B4EA-E4212CD86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ABA36-B14A-4F0B-8ED8-A0C223DF8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CBE94-8FA9-41CF-BBC8-F0CDE1F29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35F9AF-9AC5-4E5D-98BC-FD69BE5B7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C36CA-464A-40DE-ACE5-103B918AF3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9A09D-436C-4E05-8FEB-4D45F924B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9401C-D13B-45A0-B821-049851BD7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379AE-4BC0-458A-9973-A68157AE7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DA246-96C2-4999-AB4B-BB4E38FD5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B9CFC-AAFA-40B4-99B4-E258B214C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5CF33-30BA-4625-90A4-B107DB1E1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425F4-4992-445F-8E8E-7907A5796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E84D-81EF-4F00-8880-99D61D07E4B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17DA-60F6-4AB5-9C0B-F2D26CD427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e5ffff"/>
                </a:solidFill>
                <a:latin typeface="Tahoma"/>
              </a:rPr>
              <a:t>ZDRAVSTVENO PONAŠANJE</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ema načinu kako jedno društvo shvaća pojam zdravlja uopće, ovisiti će norme zdravstvenog ponašanja u tom društvu.Suvremena znanost pod ponašanjem podrazumijeva svaku akciju ili reakciju  kroz koju neki sustav bio živi ili ne živi odgovara na promjene, ili pak sam izaziva promjene u svom okruženju.Prema stavovima psihologa postoje dva temeljna obrasca ponašanja (Barath,A.199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Razlikovanje ovih vrsta znanja ima značaja za praktični svakodnevni život i zdravlje, te implicira usvajanje određenih obrazaca zdravstvenog ponašanja.</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ve to je opet    bitno za teoriju i praksu suvremene zdravstvene zaštite.</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Tako postaje jasno da spoznaje i odluke o tome tko je «zdrav» a tko «bolestan» u jednoj zajednici predstavlja složen problem javnog usuglašavanj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ično znanstvenici razlikuju tri osnovna spoznajna okvira (prema Barathu 1999):</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ffffff"/>
                </a:solidFill>
                <a:latin typeface="Tahoma"/>
              </a:rPr>
              <a:t>Profesionalna znanja</a:t>
            </a:r>
            <a:r>
              <a:rPr b="0" lang="hr-HR" sz="2400" spc="-1" strike="noStrike">
                <a:solidFill>
                  <a:srgbClr val="ffffff"/>
                </a:solidFill>
                <a:latin typeface="Tahoma"/>
              </a:rPr>
              <a:t> (expert knowlidge) što bi predstavljale znanstveno               stručne spoznaj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ffffff"/>
                </a:solidFill>
                <a:latin typeface="Tahoma"/>
              </a:rPr>
              <a:t>Laička znanja</a:t>
            </a:r>
            <a:r>
              <a:rPr b="0" lang="hr-HR" sz="2400" spc="-1" strike="noStrike">
                <a:solidFill>
                  <a:srgbClr val="ffffff"/>
                </a:solidFill>
                <a:latin typeface="Tahoma"/>
              </a:rPr>
              <a:t> (lay knowlidge) ili pučko znanje kako ga označavaju                   antropolozi, ili još jednostavnije rečeno «zdravi razum» što je potrebno za svakodnevni živo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ffffff"/>
                </a:solidFill>
                <a:latin typeface="Tahoma"/>
              </a:rPr>
              <a:t>Iskustvena znanja</a:t>
            </a:r>
            <a:r>
              <a:rPr b="0" lang="hr-HR" sz="2400" spc="-1" strike="noStrike">
                <a:solidFill>
                  <a:srgbClr val="ffffff"/>
                </a:solidFill>
                <a:latin typeface="Tahoma"/>
              </a:rPr>
              <a:t> (experiential knowlidge), koje osoba stječe ili jedino može steći iz osobnog iskustva i suočavanja s egzistencijalno prijetećim  situacijam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ako se na izvjestan način i u oblasti poimanja zdravlja došlo do filozofskog poimanja tzv. «objektivne stvarnosti».</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aj pojam koji antropolozi, filozofi tako rado koriste, može se na određeni način primijeniti i u oblasti poimanja zdravlja uopće.psiholozi danas općenito smatraju da postoje tzv. višestruke realnosti koje oni nazivaju «kognitivne referenc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o zapravo predstavlja način razumijevanja svakodnevnih iskustava, ponašanja i odlučivanja pojedinca ali i društvenih grupa.</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zvori znanja o zdravlju</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omatrano sa različitih tačaka granice između zdravog i bolesnog nije jednostavno podvući, a pogotovo nije moguće utvrdit konstante koje to određuju.Znanstvenici različitih oblasti imaju svoje postavke o samoj stvarnosti realitetu koji nas okružuje.Tu se uvijek podvlači činjenica da jedinka ima doživljaj svoga okruženja na subjektivan način, putem čula i mišljenja.Tako se na izvjestan način i u oblasti poimanja zdravlja došlo do filozofskog poimanja tzv. «objektivne stvarnosti»</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konačno od bolesnika se očekuje da će potražiti kompetentne pomagače, prvenstveno liječnike kao legitimne predstavnike društva odnosno vlasti, u kvalifikaciji  njegovog zdravlja društvenog statusa u zajednici.</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drazumijeva se da će prihvatiti i slijediti upute liječnika i zdravstvenog osoblja u tom, tj. postizanju ozdravljenja</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oje bi to bile posebne društvene norm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bolesnika se oslobađa svih njegovih društvenih obaveza koje inače obavlja u privatnom ili javnom životu., tj. nalazi se na bolovanju.</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obi u statusu bolesnika treba pomoći, bilo stručno ili laički, a to u praksi obično znači oboje jer on ne može voditi brigu sam o sebi, bar ne u cijelosti</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d bolesnika se očekuje da će surađivati sa svojim pomagačima tj. liječnicima i zdravstvenim osobljem, a sve u cilju da se što prije i bolje oporavi, te ponovno preuzme svoje svakodnevne životne obvez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609480" indent="-60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loga bolesnika</a:t>
            </a:r>
            <a:endParaRPr b="0" lang="en-US" sz="2800" spc="-1" strike="noStrike">
              <a:solidFill>
                <a:srgbClr val="ffffff"/>
              </a:solidFill>
              <a:latin typeface="Tahoma"/>
            </a:endParaRPr>
          </a:p>
          <a:p>
            <a:pPr marL="609480" indent="-60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a stajališta medicinske sociologije ovo je najzanimljivija kategorija  zdravstvenog ponašanja.Ona podrazumijeva radikalnu promjenu  u cijelom jednom nizu društvenih kodova, kriterija i normi kako za samog bolesnika tako i za njegovo okruženje. Jednostavnije rečeno, to znači bolesnik se upućuje na bolovanje</a:t>
            </a:r>
            <a:r>
              <a:rPr b="0" lang="en-US" sz="2800" spc="-1" strike="noStrike">
                <a:solidFill>
                  <a:srgbClr val="ffffff"/>
                </a:solidFill>
                <a:latin typeface="Tahoma"/>
              </a:rPr>
              <a:t> </a:t>
            </a:r>
            <a:r>
              <a:rPr b="0" lang="hr-HR"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609480" indent="-60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Bolesničko ponašanje (sic-rolle behavior).</a:t>
            </a:r>
            <a:endParaRPr b="0" lang="en-US" sz="2800" spc="-1" strike="noStrike">
              <a:solidFill>
                <a:srgbClr val="ffffff"/>
              </a:solidFill>
              <a:latin typeface="Tahoma"/>
            </a:endParaRPr>
          </a:p>
          <a:p>
            <a:pPr marL="609480" indent="-60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vdje se radi o društveno legitimnoj ulozi bolesnika kao posebnoj kategoriji očekivanih obrazaca ponašanja osobe u trenutku postavljanja dijagnoze o postojanju bolesti odnosno onesposobljenja do trenutka stanja izliječenosti od akutne bolest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egobno ponašanje je podskupina kad je organizam potpao pod djelovanje bolesti, ali još nema vidljiv tzv. kliničkih znakova:To su oblici ponašanja u fazi nastupa bolesti, ako što je stanje subjektivno stanje tegobnosti.Osoba se žali na umor iscrpljenost, smanjene radne kapacitete.Ono što je najbitnija odlika ove podskupine ili faze razvoja bolesti, jeste da  taj bolesnik još nije verificiran od svoje okoline kao takav.To se odnosi i na verifikaciju bolesti od strane legalnih autoriteta, kao što je liječnička dijagnoza.Ovi subjekti (liječnik) će priznati ili odbaciti prava ili obveze takve osobe, nakon što objektivno provjere njezino zdravstveno stanj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fontScale="98000"/>
          </a:bodyPr>
          <a:p>
            <a:pPr marL="597240" indent="-59724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Preventivno ponašanje.</a:t>
            </a:r>
            <a:endParaRPr b="0" lang="en-US" sz="3200" spc="-1" strike="noStrike">
              <a:solidFill>
                <a:srgbClr val="ffffff"/>
              </a:solidFill>
              <a:latin typeface="Tahoma"/>
            </a:endParaRPr>
          </a:p>
          <a:p>
            <a:pPr marL="597240" indent="-5972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To su razložni opravdani  postupci koje neka osoba poduzima da spriječi ili umanji rizik od neke bolesti, kao što na  primjer infekcije, profesionalne bolesti kao i dječje bolesti i  slično.Ove akcije mogu biti individualne ili inicirane od društva kao što je na primjer cijepljenj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 medicinskoj literaturi obično se govori o slijedećim podskupinama-obrascima zdravstvenog ponašanja.Putem sadržaja ovih podskupina, vrlo jasno je oslikan prijelaz iz stanja zdravlja u stanje bolesti:</a:t>
            </a: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zdrave životne navike.To su rutine ili stil života u koje spadaju između ostalog i zdrave higijenske navike, kojima je cilj prema osobnim ili opće prihvaćenim društvenim i kulturnim normama jačati pozitivne prilagodbene kapacitete.Ovdje bi spadali režimi tjelovježbe, zdrave prehrambene navike, radne ili rekreativne navike i slično.Krajnji cilj je očuvanje dobrog zdravlj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fontScale="97000"/>
          </a:bodyPr>
          <a:p>
            <a:pPr marL="591120" indent="-5911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ilagodbeno  ponašanje- predstavlja stečene  sposobnosti ili mogućnosti kroz koje organizam (čovjek i  ostala živa bića) djeluje na svoje okruženje ili na samog sebe u cilju udovoljena svojim životnim potrebama.</a:t>
            </a:r>
            <a:endParaRPr b="0" lang="en-US" sz="2800" spc="-1" strike="noStrike">
              <a:solidFill>
                <a:srgbClr val="ffffff"/>
              </a:solidFill>
              <a:latin typeface="Tahoma"/>
            </a:endParaRPr>
          </a:p>
          <a:p>
            <a:pPr marL="591120" indent="-5911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agonsko ili instinktivno ponašanje predstavljaju urađeni obrasci  djelovanja na sebe ili na okolinu.Ova vrsta ponašanja skoro potpuno ovisi o određenoj kronološkoj dobi i aktivaciji genetskih kodova kod pojedinca.</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20:11:08Z</dcterms:created>
  <dc:creator>Vera Danes</dc:creator>
  <dc:description/>
  <dc:language>en-US</dc:language>
  <cp:lastModifiedBy>Vera Danes</cp:lastModifiedBy>
  <dcterms:modified xsi:type="dcterms:W3CDTF">2013-04-05T10:21:52Z</dcterms:modified>
  <cp:revision>15</cp:revision>
  <dc:subject/>
  <dc:title>ZDRAVSTVENO PONAŠANJE</dc:title>
</cp:coreProperties>
</file>