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D7376-C979-4CE5-BA33-CF14527D7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604D3-A4CA-4873-9AF8-6C4A1B0FB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4C371-DFF5-4FBF-8394-AA1B9C483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CFB40-D358-4061-A2F2-108378ADB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76CB4C-46A7-4AB2-9AC6-E823DBC9ED1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842733-E41E-4780-9705-2012810C1C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184B39-3DA9-4B3C-9474-5262FA02E5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E589ED-8EC3-4DB2-B186-B882C9A58F7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259E82-20D8-4C68-A0C1-D78A0E31CE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F8503A-BE9D-4060-86C8-39DCF6E93AC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8F7B46-BB10-4592-8FB5-57A3536B4C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8AB1A-B455-433E-8F6E-BB9402748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1CE49B-B142-4911-ADC7-369448D255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74DBC-A0B0-4FA8-9DBB-1527687D62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FC1603-29A3-4F45-B634-A9796FFD50D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6F00C0-2F95-4966-91E2-1A9EB92084A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A54AC3-56BC-438B-970B-AE663147A01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03781-CEC5-479F-8C8D-79666E81E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BED28-E504-4482-9364-4B83699D5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7D888-C0B1-4A9D-BC72-0483BFA17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CE8D7-AC05-43CC-88B3-5B271C71B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89108-CEAB-4BD3-B774-51B37EB59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D0B6E-3831-4A42-B0FA-61ABB2D71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42081-1F51-4EF1-BD0A-C5759FA98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EE19-5F47-4958-8F12-3A7BF26E19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3AAA-5A95-40B8-A4F4-32C8783BCF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Tahoma"/>
              </a:rPr>
              <a:t>U Č E N J E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čenje je ujedno i mišljenje.Nemoguće je zapamtiti sve što čovjek čuje ili čita.Za vrijeme učenja treba razabirati značajno gradivo i nastojati da se to održi u središtu pažnje.Pojedini govorni izrazi, opisi, poredjenja primjedbe nisu toliko važni, koliko  zakonitosti i principi.</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načajne stvari se zapisuju i poslije ponavljaju</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Tahoma"/>
              </a:rPr>
              <a:t>ZNANJE</a:t>
            </a:r>
            <a:endParaRPr b="0" lang="en-US" sz="32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Čovjek usvaja znanje prvenstveno razumijevanjem sadržaja.O znanju govorimo kada pojedinac operira značenjem riječi i veza riječi: pojmovima opsima,sudovima,zaključcima, definicijama-tj. onim situacijama kada može istu misao izraziti na različite načine.Nije važna specifična formulacija nego sadržaj koji izaziva formulacija.</a:t>
            </a:r>
            <a:endParaRPr b="0" lang="en-US" sz="2800" spc="-1" strike="noStrike">
              <a:solidFill>
                <a:srgbClr val="ffffff"/>
              </a:solidFill>
              <a:latin typeface="Tahoma"/>
            </a:endParaRPr>
          </a:p>
          <a:p>
            <a:pPr marL="325800" indent="-32580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spješno usvajanje znanja  zahtijeva da čovjek za vrijeme učenja bude što više aktiva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INTELIGENCIJA</a:t>
            </a:r>
            <a:endParaRPr b="0" lang="en-US" sz="32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fluidna                                                                kristalizira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bitna za novo nepoznato                                                                   bitna za poznato smisleno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gradivo i iskust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12000" y="2013480"/>
            <a:ext cx="10370160" cy="283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Č-čitati letimično prije usredotečonog učenj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pitati se koji je dio štiva bita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Č-čitati svjesno koristeći vd i pamćenj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pamtiti pročitano po vlastitim riječim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ponavljanje zapamćenog nakon nekoliko sati ili nekoliko dan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straživanja su pokazala da su studenti koji su učili po ovoj metodi postizali mnogo bolji uspje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od studenata koji su učili po svojim navikam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ako je materijal koji treba učiti hijerarhijski organiziran ( u tom smisl.U tim slučajevima viša inteligencija doprinosi bržem učenju takvog materijala.u učenje kasnijih elemanata ovisi o usvojenosti prethodnih), a osobito je inteligencija bitna ako postoji potreba za razvojem optimalne strategije učenja.Tada viša inteligencija doprinosi bržem učenju takvog materijala.</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vrijeme učenja je ograničenije  što je IQ  viši.</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čenje je više u vezi sa sazrijevanjem , što već po definiciji IQ mora biti u odredjenoj korelaciji.</a:t>
            </a:r>
            <a:endParaRPr b="0" lang="en-US" sz="2400" spc="-1" strike="noStrike">
              <a:solidFill>
                <a:srgbClr val="ffffff"/>
              </a:solidFill>
              <a:latin typeface="Tahoma"/>
            </a:endParaRPr>
          </a:p>
          <a:p>
            <a:pPr marL="332640" indent="-3326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Transfer učenja je prenošenje utjecaja ranijeg znanja na stjecanje novog.Primjer za ovo je učenje  dva ili više stranih jezika: prvi ili potpomaže ili ometa učenje drugog.Takodjer ako se jezik u djetinjstvu nauči u odredjenom dijalektu, ovo može ometati kasnije učenje književnog jezik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74400" y="2415240"/>
            <a:ext cx="8384400" cy="1922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čenje je neposredno vezano za inteligenciju,</a:t>
            </a:r>
            <a:endParaRPr b="0" lang="en-US" sz="24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te su tu bitni slijedeći elementi:</a:t>
            </a:r>
            <a:endParaRPr b="0" lang="en-US" sz="24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    sustav pohvale i kazne</a:t>
            </a:r>
            <a:endParaRPr b="0" lang="en-US" sz="24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dgovarajuća vremenska raspodjela učenja materijala</a:t>
            </a:r>
            <a:endParaRPr b="0" lang="en-US" sz="24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težina štiva koje se uči, lakše se pamti jednostavnije štivo</a:t>
            </a:r>
            <a:r>
              <a:rPr b="0" lang="en-US" sz="2400" spc="-1" strike="noStrike">
                <a:solidFill>
                  <a:srgbClr val="ffffff"/>
                </a:solidFill>
                <a:latin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914400" y="1844640"/>
            <a:ext cx="8229600" cy="41148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Učenje i inteligencija</a:t>
            </a:r>
            <a:endParaRPr b="0" lang="en-US" sz="2400" spc="-1" strike="noStrike">
              <a:solidFill>
                <a:srgbClr val="ffffff"/>
              </a:solidFill>
              <a:latin typeface="Tahoma"/>
            </a:endParaRPr>
          </a:p>
          <a:p>
            <a:pPr marL="308520" indent="-3085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Koliko su ova dva pojma povezana najočitije govori podatak da se u nekim teorijama inteligencija definira brzinom učenja  i/ili  završnom razinom složenosti naučenog.I</a:t>
            </a:r>
            <a:endParaRPr b="0" lang="en-US" sz="2400" spc="-1" strike="noStrike">
              <a:solidFill>
                <a:srgbClr val="ffffff"/>
              </a:solidFill>
              <a:latin typeface="Tahoma"/>
            </a:endParaRPr>
          </a:p>
          <a:p>
            <a:pPr marL="308520" indent="-3085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straživači se obično spore oko toga da li je potrebno dovesti u vezu mentalnu i dob kvocijent inteligencije u neposrednu vezu s učenjem.</a:t>
            </a:r>
            <a:endParaRPr b="0" lang="en-US" sz="2400" spc="-1" strike="noStrike">
              <a:solidFill>
                <a:srgbClr val="ffffff"/>
              </a:solidFill>
              <a:latin typeface="Tahoma"/>
            </a:endParaRPr>
          </a:p>
          <a:p>
            <a:pPr marL="308520" indent="-3085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rema jednima IQ je bitan za učenje, jer  je to mjera koja stavljajući u odnosu mentalnu i kronološku dob, pokazuje kako se razvija inteligencija.U tom smislu IQ predstavlja matematičku tvrdnju o tempu kojim će se kroz vremesku dimenziju mijenjati sposobnost za učenje.Tu se misli na sposobnost pojedinca koliko će brzo učiti, i moći naučiti i složene postupke, ili će biti obratno.</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To se objašnjava na slijedeći način:</a:t>
            </a:r>
            <a:endParaRPr b="0" lang="en-US" sz="2800" spc="-1" strike="noStrike">
              <a:solidFill>
                <a:srgbClr val="ffffff"/>
              </a:solidFill>
              <a:latin typeface="Tahoma"/>
            </a:endParaRPr>
          </a:p>
          <a:p>
            <a:pPr marL="339480" indent="-33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ono što je složenije za naučiti potrebna je viša inteligencija.Takodjer je utvrdjena i blaga negativna korelacija izmedju mehaničkog učenja jednostavnih zadataka i IQ u uzorcima visoko inteligentnih osoba.</a:t>
            </a:r>
            <a:endParaRPr b="0" lang="en-US" sz="2800" spc="-1" strike="noStrike">
              <a:solidFill>
                <a:srgbClr val="ffffff"/>
              </a:solidFill>
              <a:latin typeface="Tahoma"/>
            </a:endParaRPr>
          </a:p>
          <a:p>
            <a:pPr marL="339480" indent="-33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veća samostalnost materijala takodjer uvjetuje viši stupanj inteligencije.To se tumači postojanjem psihičkog transfera, tj. nadogradnje novog materijala na već naučeno</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ako je materijal koji treba učiti hijerarhijski organiziran ( u tom smisl.U tim slučajevima viša inteligencija doprinosi bržem učenju takvog materijala.u učenje kasnijih elemanata ovisi o usvojenosti prethodnih), a osobito je inteligencija bitna ako postoji potreba za razvojem optimalne strategije učenja.Tada viša inteligencija doprinosi bržem učenju takvog materijala.</a:t>
            </a:r>
            <a:endParaRPr b="0" lang="en-US" sz="2800" spc="-1" strike="noStrike">
              <a:solidFill>
                <a:srgbClr val="ffffff"/>
              </a:solidFill>
              <a:latin typeface="Tahoma"/>
            </a:endParaRPr>
          </a:p>
          <a:p>
            <a:pPr marL="308520" indent="-3085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vrijeme učenja je ograničenije  što je IQ  viši.</a:t>
            </a:r>
            <a:endParaRPr b="0" lang="en-US" sz="2800" spc="-1" strike="noStrike">
              <a:solidFill>
                <a:srgbClr val="ffffff"/>
              </a:solidFill>
              <a:latin typeface="Tahoma"/>
            </a:endParaRPr>
          </a:p>
          <a:p>
            <a:pPr marL="308520" indent="-3085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čenje je više u vezi sa sazrijevanjem , što već po definiciji IQ mora biti u odredjenoj korelaciji</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Učenje je toliko složen i raznovrstan fenomen, da zapravo niti jedna postojeća teorija ne može u potpunosti dati zadovoljavajuću definiciju.Način i vrste učenja kao kognitivnog procesa su mnogobrojni i raznovrsn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Većina udžbenika definira učenje kao promjene u ponašanju</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učenje je  namjerno upamćivanje materijala, najčešće metodom ponavljanja.To je dinamičan psihički proces, koji na teče ravnomjerno nego u skokovima.</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Većina udžbenika definira učenje kao promjene u ponašanj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Da bismo se mogli prilagodjavati promjenama moramo biti sposobni mijenjati svoje ponašanj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Najkonkretnije rečeno učenje je  namjerno upamćivanje materijala, najčešće metodom ponavljanja.To je dinamičan psihički proces, koji na teče ravnomjerno nego u skokovima</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imjer za to je spremanje ispita.Kad se predje odredjena količina gradiva, student ima osjećaj da ništa nije zapamtio, medjutim, u jednom momentu osjeti koliko je zapravo napredovao.Ovo se naravno odnosi na kontinuirano spremanje ispita, a ne tzv. kampanjsko, kad se velika količina materijal za naučiti stavi u mali vremenski okvir, obično nekoliko dana pred ispit.Takvo znanje nije trajno, i obično se ubrzo zaboravlja</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Vrlo je jednostavno uočiti razlike u sposobnostima za učenje.U školi se lako zapaze te razlike, bolji učenici daleko iza sebe ostave slabije.Tri su glavne vrste čimbenika koji utječu na učenje:</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1.motivacija ili ono što čovjek </a:t>
            </a:r>
            <a:r>
              <a:rPr b="1" lang="hr-HR" sz="2800" spc="-1" strike="noStrike">
                <a:solidFill>
                  <a:srgbClr val="ffffff"/>
                </a:solidFill>
                <a:latin typeface="Tahoma"/>
              </a:rPr>
              <a:t>hoće</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2.sposobnost ili ono što čovjek </a:t>
            </a:r>
            <a:r>
              <a:rPr b="1" lang="hr-HR" sz="2800" spc="-1" strike="noStrike">
                <a:solidFill>
                  <a:srgbClr val="ffffff"/>
                </a:solidFill>
                <a:latin typeface="Tahoma"/>
              </a:rPr>
              <a:t>može</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3.prethodno znanje ili ono što čovjek </a:t>
            </a:r>
            <a:r>
              <a:rPr b="1" lang="hr-HR" sz="2800" spc="-1" strike="noStrike">
                <a:solidFill>
                  <a:srgbClr val="ffffff"/>
                </a:solidFill>
                <a:latin typeface="Tahoma"/>
              </a:rPr>
              <a:t>zna</a:t>
            </a:r>
            <a:r>
              <a:rPr b="0" lang="hr-H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Tahoma"/>
              </a:rPr>
              <a:t>Psihički transfer</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Može biti pozitivni i negativni.U psihologiji transferom označavamo prijenos rezultata jedne naučene aktivnosti na učenje i izvodjenje druge aktivnosti</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Transfer djeluje za vrijeme opažanja, mišljenja osjećanja, a naročito za vrijeme učenja.Učenje se nikada ne vrši bez transfera, stalno prenosimo prošla iskustva, saznanja, vještine i navike u ono što tek saznajemo</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O razlozima od kojih ovisi smjer i intenzitet transfera od kojih su dva glavna može se reći slijedeće:</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intenzitet transfera ovosi od stupnja sličnosti medju podražajima s obje situacije.Što su podražaji sličniji učenje aktivnosti A bolje utječe na kasnije učenje aktivnosti B.</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   </a:t>
            </a:r>
            <a:r>
              <a:rPr b="0" lang="hr-HR" sz="2800" spc="-1" strike="noStrike">
                <a:solidFill>
                  <a:srgbClr val="ffffff"/>
                </a:solidFill>
                <a:latin typeface="Tahoma"/>
              </a:rPr>
              <a:t>-smjer transfera ovisi o sličnosti odnosno podudarnosti  odgovora.Sličniji odgovori daju pozitivan  transf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Učinak transfera je dvostruk: učenje neke aktivnosti može poboljšati ili oslabiti uspjeh u učenju, pa se zato razlikuju pozitivni i negativni transfer- primjer sa učenjem dva strana jezika.</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vi može utjecati na učenje drugog u pozitivnom ili negativnom smislu, što je očigledan primjer postojanja psihičkog transfera</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Bilješke sadrže samo ono što je čitatelju važno ili mu se čini važno.Tako netko podvlači dijelove teksta, netko pravi kratke zabilješke na margini stranice.Isto su tako važni izvodi koje netko pravi poslije učenja iz teksta.Oni su jezgra sadržaja koji je u njima zbijen u nekoliko rečenica.Za vrijeme pisanja izvoda učenik je vrlo aktivan, a to pomaže temeljitijem usvajanju gradiva.Izvadci su odlično sredstvo za ponavljanje</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9T18:46:38Z</dcterms:created>
  <dc:creator>Vera Danes</dc:creator>
  <dc:description/>
  <dc:language>en-US</dc:language>
  <cp:lastModifiedBy>Vera Danes</cp:lastModifiedBy>
  <dcterms:modified xsi:type="dcterms:W3CDTF">2013-04-05T10:22:39Z</dcterms:modified>
  <cp:revision>24</cp:revision>
  <dc:subject/>
  <dc:title>U Č E N J E </dc:title>
</cp:coreProperties>
</file>