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66DD-51EA-44F7-A968-BEEBB4D51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8A10-DFB9-45EE-8B8A-18B2EF6E3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4D2C-3681-4312-95EB-1332CE972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61AF-A7FC-49F0-97A0-69BB6B60C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97A6F-F257-4A58-9FC4-56B143FBC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83A93-C1FB-4559-BC2D-7ECF60573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54425-4DD5-413E-BFC3-33FB57295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3FD5C-C356-45E5-8B95-F6E6EA57A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24E59-8D5D-4C6F-9280-D3B60D2E1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E3969-D7D0-4BF3-B853-F32300BCC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58E19-0211-4B80-BADA-CEC1CCCB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DF26-AC6A-4751-A21D-2B2DAF12B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AD154-CFE8-423E-8E01-2ABBB31C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840AA-4C60-47F0-AF22-EC1AC39F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551D8-5133-4B6E-815A-5DFABE845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3CB3D-511E-4576-AF1C-8F1223C3B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44876-B5CE-4883-99EA-6C4B9AC30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EE6E-1BDD-4B21-A43F-5C94A0C12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1AC6-E8CF-4716-AC21-8F86B3488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B63C-457C-4557-8D19-2AB082351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472B-99D9-48F1-B9CB-5F67CAD90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D607-CF2A-435B-9CBF-8E546969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212C-2ED9-4342-872E-4D264FD4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D06E-9903-42A3-8263-7A95477A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2E3F8-7BF4-486A-8675-DDCFD350254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74C00-C1C9-4532-9565-FB2ED6F81CC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700" spc="-1" strike="noStrike">
                <a:solidFill>
                  <a:srgbClr val="ffffcc"/>
                </a:solidFill>
                <a:latin typeface="Arial"/>
              </a:rPr>
              <a:t>PAMĆENJE I POREMEĆAJI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eaeaea"/>
                </a:solidFill>
                <a:latin typeface="Verdana"/>
              </a:rPr>
              <a:t>Organske amnezije</a:t>
            </a:r>
            <a:r>
              <a:rPr b="0" lang="hr-HR" sz="2800" spc="-1" strike="noStrike">
                <a:solidFill>
                  <a:srgbClr val="eaeaea"/>
                </a:solidFill>
                <a:latin typeface="Verdana"/>
              </a:rPr>
              <a:t> su posljedica oštećenja moždanog tkiva povrede, nagnječenja,intoksikacije,komocije zagušenja, nock-out, strujnog udara, groma,encefalitisa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eaeaea"/>
                </a:solidFill>
                <a:latin typeface="Verdana"/>
              </a:rPr>
              <a:t>retrogradna</a:t>
            </a:r>
            <a:r>
              <a:rPr b="0" lang="hr-HR" sz="2800" spc="-1" strike="noStrike">
                <a:solidFill>
                  <a:srgbClr val="eaeaea"/>
                </a:solidFill>
                <a:latin typeface="Verdana"/>
              </a:rPr>
              <a:t>-ne sjeća se dogadjaja koji je neposredno prethodio na primjer traumi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eaeaea"/>
                </a:solidFill>
                <a:latin typeface="Verdana"/>
              </a:rPr>
              <a:t>anterogradna</a:t>
            </a:r>
            <a:r>
              <a:rPr b="0" lang="hr-HR" sz="2800" spc="-1" strike="noStrike">
                <a:solidFill>
                  <a:srgbClr val="eaeaea"/>
                </a:solidFill>
                <a:latin typeface="Verdana"/>
              </a:rPr>
              <a:t> ili kasna-ne sjeća se dogadjaja kad je došao k svijesti nakon povrede. (stručno mišljenja o njoj nije jedinstveno neki tvde da zapravo ne postoji)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eaeaea"/>
                </a:solidFill>
                <a:latin typeface="Verdana"/>
              </a:rPr>
              <a:t>Funkcionalne amnezije</a:t>
            </a:r>
            <a:r>
              <a:rPr b="0" lang="hr-HR" sz="2800" spc="-1" strike="noStrike">
                <a:solidFill>
                  <a:srgbClr val="eaeaea"/>
                </a:solidFill>
                <a:latin typeface="Verdana"/>
              </a:rPr>
              <a:t> namaju organsku podlogu, tj. nema oštećenja moždanog tkiv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Verdana"/>
              </a:rPr>
              <a:t>Javljaju se pod utjecajem jakog afekta i to naročito kod histeričnih reakcij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Verdana"/>
              </a:rPr>
              <a:t>Tu se radi o potisnutim sjećanjima neugodnim za bolesnika i obično je ta amnezija usmjerena na jedan vremenski oštro ograničen perio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eaeaea"/>
                </a:solidFill>
                <a:latin typeface="Verdana"/>
              </a:rPr>
              <a:t>Kvalitativni poremećaji pamćenj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Verdana"/>
              </a:rPr>
              <a:t>vrlo su šaroliki i uglavnom jasno povezani s odredjenim duševnim poremećajima:                                 -</a:t>
            </a:r>
            <a:r>
              <a:rPr b="1" lang="hr-HR" sz="2800" spc="-1" strike="noStrike">
                <a:solidFill>
                  <a:srgbClr val="eaeaea"/>
                </a:solidFill>
                <a:latin typeface="Verdana"/>
              </a:rPr>
              <a:t>naknadno izvrnuto sjećanje</a:t>
            </a:r>
            <a:r>
              <a:rPr b="0" lang="hr-HR" sz="2800" spc="-1" strike="noStrike">
                <a:solidFill>
                  <a:srgbClr val="eaeaea"/>
                </a:solidFill>
                <a:latin typeface="Verdana"/>
              </a:rPr>
              <a:t> kod depresivnih, paranoidnih,                        -</a:t>
            </a:r>
            <a:r>
              <a:rPr b="1" lang="hr-HR" sz="2800" spc="-1" strike="noStrike">
                <a:solidFill>
                  <a:srgbClr val="eaeaea"/>
                </a:solidFill>
                <a:latin typeface="Verdana"/>
              </a:rPr>
              <a:t>konfabulacije</a:t>
            </a:r>
            <a:r>
              <a:rPr b="0" lang="hr-HR" sz="2800" spc="-1" strike="noStrike">
                <a:solidFill>
                  <a:srgbClr val="eaeaea"/>
                </a:solidFill>
                <a:latin typeface="Verdana"/>
              </a:rPr>
              <a:t> bolesnik kao sjećanje doživljava svoju maštu i to se nikad nije dogodilo u stvarnosti (djeca, histerici, sindrom Minhauzen,organske psihoze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eaeaea"/>
                </a:solidFill>
                <a:latin typeface="Verdana"/>
              </a:rPr>
              <a:t>Pseudologia fantastica </a:t>
            </a:r>
            <a:r>
              <a:rPr b="0" lang="hr-HR" sz="3200" spc="-1" strike="noStrike">
                <a:solidFill>
                  <a:srgbClr val="eaeaea"/>
                </a:solidFill>
                <a:latin typeface="Verdana"/>
              </a:rPr>
              <a:t>ili patološka lažljivost takodjer je česta kod djece i histeričnih osob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Verdana"/>
              </a:rPr>
              <a:t>Definicij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Verdana"/>
              </a:rPr>
              <a:t>Pamćenje je psihička funkcija koja se sastoji od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Verdana"/>
              </a:rPr>
              <a:t>-upamćivanj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Verdana"/>
              </a:rPr>
              <a:t>-zadržavanja upamćenog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Verdana"/>
              </a:rPr>
              <a:t>-sposobnosti kasnijeg prepoznavanja upamćenog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Verdana"/>
              </a:rPr>
              <a:t>Smatra se da je pamćenje psihička funkcija čitavog centralnog živčanog sistema tj. obuhvata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Verdana"/>
              </a:rPr>
              <a:t>-koru mozg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Verdana"/>
              </a:rPr>
              <a:t>-bazalne ganglije-talamus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hr-HR" sz="3200" spc="-1" strike="noStrike">
                <a:solidFill>
                  <a:srgbClr val="eaeaea"/>
                </a:solidFill>
                <a:latin typeface="Verdana"/>
              </a:rPr>
              <a:t>moždano stabl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Verdana"/>
              </a:rPr>
              <a:t>Povezanost pamćenja i percepcije je što je percepcija sadržaja ono što čula trenutačno primaju, a pamćenje je sadržaj koji je čulo primilo nekada ranij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Verdana"/>
              </a:rPr>
              <a:t>Za obje psihičke funkcije karakteristično je da je neophodan faktor ISKUSTV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eaeaea"/>
                </a:solidFill>
                <a:latin typeface="Verdana"/>
              </a:rPr>
              <a:t>Upamćivanje i reprodukcija</a:t>
            </a:r>
            <a:r>
              <a:rPr b="0" lang="hr-HR" sz="2800" spc="-1" strike="noStrike">
                <a:solidFill>
                  <a:srgbClr val="eaeaea"/>
                </a:solidFill>
                <a:latin typeface="Verdana"/>
              </a:rPr>
              <a:t>  su osnovne funkcije u sklopu pamćenja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eaeaea"/>
                </a:solidFill>
                <a:latin typeface="Verdana"/>
              </a:rPr>
              <a:t>Reprodukcija</a:t>
            </a:r>
            <a:r>
              <a:rPr b="0" lang="hr-HR" sz="2800" spc="-1" strike="noStrike">
                <a:solidFill>
                  <a:srgbClr val="eaeaea"/>
                </a:solidFill>
                <a:latin typeface="Verdana"/>
              </a:rPr>
              <a:t> je psihički fenomen održavaja prošlosti bez ponovne percepcij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eaeaea"/>
                </a:solidFill>
                <a:latin typeface="Verdana"/>
              </a:rPr>
              <a:t>Asocijacija</a:t>
            </a:r>
            <a:r>
              <a:rPr b="0" lang="hr-HR" sz="2800" spc="-1" strike="noStrike">
                <a:solidFill>
                  <a:srgbClr val="eaeaea"/>
                </a:solidFill>
                <a:latin typeface="Verdana"/>
              </a:rPr>
              <a:t> je element u funkciji pamćenja koji predstavlja povezanost izmedju dva sadržaja svijesti koji su se nekad pojavili zajedno i u sjećanju se takodjer pojavljuju zajedno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eaeaea"/>
                </a:solidFill>
                <a:latin typeface="Verdana"/>
              </a:rPr>
              <a:t>Učenje</a:t>
            </a:r>
            <a:r>
              <a:rPr b="0" lang="hr-HR" sz="2800" spc="-1" strike="noStrike">
                <a:solidFill>
                  <a:srgbClr val="eaeaea"/>
                </a:solidFill>
                <a:latin typeface="Verdana"/>
              </a:rPr>
              <a:t> je najbolji primjer aktivnog pamćenja i to je niz ponovljenih pokušaja da se zapamti jedan odredjeni sadržaj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Verdana"/>
              </a:rPr>
              <a:t>Motivacija  je vrlo važan činilac u procesu učenja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Verdana"/>
              </a:rPr>
              <a:t>Učenje je rezultat onog što čovjek: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Verdana"/>
              </a:rPr>
              <a:t>hoće  (motivacija)                  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Verdana"/>
              </a:rPr>
              <a:t>može (inteligencija)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Verdana"/>
              </a:rPr>
              <a:t>zna (prethodno znanje)                                          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eaeaea"/>
                </a:solidFill>
                <a:latin typeface="Verdana"/>
              </a:rPr>
              <a:t>Reprodukcija </a:t>
            </a:r>
            <a:r>
              <a:rPr b="0" lang="hr-HR" sz="3200" spc="-1" strike="noStrike">
                <a:solidFill>
                  <a:srgbClr val="eaeaea"/>
                </a:solidFill>
                <a:latin typeface="Verdana"/>
              </a:rPr>
              <a:t>ili sjećanje upamćenog može biti svjesna i nesvjesna, što znači da sjećanje može biti ciljano da se nečeg prisjetimo ili nesvjesn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eaeaea"/>
                </a:solidFill>
                <a:latin typeface="Verdana"/>
              </a:rPr>
              <a:t>Zaboravljanje</a:t>
            </a:r>
            <a:r>
              <a:rPr b="0" lang="hr-HR" sz="3200" spc="-1" strike="noStrike">
                <a:solidFill>
                  <a:srgbClr val="eaeaea"/>
                </a:solidFill>
                <a:latin typeface="Verdana"/>
              </a:rPr>
              <a:t> je takodjer sastavni dio procesa pamćenja i ono jed neophodno da bi mozak mogao primati nove sadržaj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cc"/>
                </a:solidFill>
                <a:latin typeface="Arial"/>
              </a:rPr>
              <a:t>Poremećaji pamćenj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Verdana"/>
              </a:rPr>
              <a:t>Kvantitativni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Verdana"/>
              </a:rPr>
              <a:t>Kvalitativni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eaeaea"/>
                </a:solidFill>
                <a:latin typeface="Verdana"/>
              </a:rPr>
              <a:t>Kvantitativni poremećaji</a:t>
            </a:r>
            <a:r>
              <a:rPr b="0" lang="hr-HR" sz="3200" spc="-1" strike="noStrike">
                <a:solidFill>
                  <a:srgbClr val="eaeaea"/>
                </a:solidFill>
                <a:latin typeface="Verdana"/>
              </a:rPr>
              <a:t>:                    </a:t>
            </a:r>
            <a:r>
              <a:rPr b="1" lang="hr-HR" sz="3200" spc="-1" strike="noStrike">
                <a:solidFill>
                  <a:srgbClr val="eaeaea"/>
                </a:solidFill>
                <a:latin typeface="Verdana"/>
              </a:rPr>
              <a:t>1.prolazna zaboravnost</a:t>
            </a:r>
            <a:r>
              <a:rPr b="0" lang="hr-HR" sz="3200" spc="-1" strike="noStrike">
                <a:solidFill>
                  <a:srgbClr val="eaeaea"/>
                </a:solidFill>
                <a:latin typeface="Verdana"/>
              </a:rPr>
              <a:t> je česta pojava koja se može javiti i kod zdravih ljudi (kod umora,                                      iscrpljenosti,neurotskih struktura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Verdana"/>
              </a:rPr>
              <a:t>2</a:t>
            </a:r>
            <a:r>
              <a:rPr b="1" lang="hr-HR" sz="3200" spc="-1" strike="noStrike">
                <a:solidFill>
                  <a:srgbClr val="eaeaea"/>
                </a:solidFill>
                <a:latin typeface="Verdana"/>
              </a:rPr>
              <a:t>.Amnezije</a:t>
            </a:r>
            <a:r>
              <a:rPr b="0" lang="hr-HR" sz="3200" spc="-1" strike="noStrike">
                <a:solidFill>
                  <a:srgbClr val="eaeaea"/>
                </a:solidFill>
                <a:latin typeface="Verdana"/>
              </a:rPr>
              <a:t> ili gubitak pamćenja :         -organske                                         -funkcionaln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3T11:38:25Z</dcterms:created>
  <dc:creator>Dr.Danes</dc:creator>
  <dc:description/>
  <dc:language>en-US</dc:language>
  <cp:lastModifiedBy>Vera Danes</cp:lastModifiedBy>
  <dcterms:modified xsi:type="dcterms:W3CDTF">2013-04-05T10:13:44Z</dcterms:modified>
  <cp:revision>3</cp:revision>
  <dc:subject/>
  <dc:title>PAMĆENJE I POREMEĆAJI</dc:title>
</cp:coreProperties>
</file>