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9FD7-4E09-4FDF-BCC6-0C295751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97E-3022-4150-9F2F-888B886B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15A-406E-4C04-9889-7E41D10F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9DC-7B68-4DC1-9F82-D5BB48B8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F13D-0F7E-4717-821D-6466F93A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4DA0-F011-4C93-9DE2-AB58018F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701-7DBC-4603-9792-23FBBBA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34C4-341E-44AF-9A45-CB9D0FA0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7F0F-A437-4FC2-8CBF-DC8EE9B8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118C-ECC2-4693-A9ED-7D42FB61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9B86-220E-4F4C-BCFE-0A56987D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652-54A2-4974-94F6-CAD78DD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0E83-3328-4657-B52B-7F6ED82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7429-7E76-45BC-BE2B-DF2CB790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8BA8-08EB-45ED-8EF7-F2316B4E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ED12-8BEE-4467-AED8-37B1BD22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EBBE-0B2F-425C-B182-BEEEB8B9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473E-FF28-458E-8927-9FEF6F66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0E26-6843-409A-97AD-C2E4B6B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0BFF-D39C-4B4A-8526-624DD4D4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4FB0-22F8-4105-868F-C6AA925F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E0E2-0B4A-4711-8115-38CF3A2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4A3D-7B37-4D0B-B362-101AE5B8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BC65B-A2A5-4D50-98BF-061A57BA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2B19-AB03-4B31-9CA2-BA9720A1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831C-7A88-41F7-AD81-0E2989EB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86966-11E1-4634-8AEF-84D88E64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D3268-8301-467D-9CDB-7CD795CE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27D5-D2C4-4EBA-A7AF-B9FEC426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55CB-8A27-4A6A-ACE2-EEE23070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13B24-12EE-4954-8134-48B25F02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1D3D-3B21-4F7F-9D70-523C675E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0942E-2DA0-4E05-8FBE-085CCE43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4BE-C3CC-433F-BB4C-2039F6DE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CDA4-9DDD-4CDD-AE9A-B56DD2BD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C9CE7-3BA8-4874-BC98-75A61636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B989-B63A-454A-BA27-F79B32BD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8AB83-0508-4459-9535-B61C2323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B8E7-E74F-4D21-B207-8217E34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7EBC2-104C-4F7E-B2BE-6DEE8C69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B491-1EA8-493E-A38A-FC0C79B8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E83B-91AC-4D7F-8151-6E6860EE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A8F19-649C-44E8-8138-868CD4F1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1D6-576B-42C6-813F-B196BD20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18F-7385-4B57-87D6-99582644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D41-7D7E-45ED-B424-807EB0E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CF9-CF65-4083-8788-4A056C5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F9C-5A28-43CD-9F17-E93701D2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D37-0D8F-40C9-ADE4-DC98FBB1BE06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F3FC-8F11-4290-B345-F8778B7D0284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42C5-4F76-40B2-B86C-87191C164457}" type="slidenum">
              <a:rPr b="0" lang="hr-HR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87D-F9B5-4188-B959-C2F4C91A8259}" type="slidenum">
              <a:rPr b="0" lang="hr-HR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229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ODRŽAVANJE HIGIJENE U ŠKO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im.mr.sc. Vesna Korda-Vidi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ZJZ F BiH Mostar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2376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Školska zgrada, učionice, hodnici, kabineti, prostorije,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prema, dvorane za tjelovježbu b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trebal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biti izgrađen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skladu sa svim higijenskim principim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prostorim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škol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redov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to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treba provodit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ezinfekciju (uništavanje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akterija)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eratizaciju (postupak uništavanja štakora, miševa i ostalih glodavaca) 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ezinsekciju (uništavanje insekata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2372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eophodno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kloniti sanitarno-tehničke i higijenske nedostatke u škol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kao npr.: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euvjetni sanitarni uređaj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oštećeni 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lažni zidov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vn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odne površin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funkcionaln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rozor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i razbijena stakla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uredna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vorišt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eponije smeć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edostatak osnovnih sredstava z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državanje…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104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školama čija je gradnja starija ljudi koji rade na održavanju higijene trebaju znatno više higijenskih sredstv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novijim školama treba manje sredstava za održavanje higije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Svakako bi u školama trebalo raditi i na osvješćivanju djece da školu doživljavaju kao svoju kuću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To se može postići na odjeljenskim zajednicama, vijeću učenika 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/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li svakodnevnom komunikacijom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čenici mogu predložiti ideje i sudjelovati u pripremi programa za podizanje svijesti o čistoći kod svojih kole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54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suvremenim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škol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ama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se na razne načine bore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protiv poriva djece da pišu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po klupama i zidovima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U tu svrhu omogući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im šarati po namjenskom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zid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, odnosno prostor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na kojem će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slobodno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pisati,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kako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nebi uništavali imovinu,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osobito namještaj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Na osnovnim pomagalima kao što su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spužva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i kreda ne 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smije se 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šted</a:t>
            </a:r>
            <a:r>
              <a:rPr b="0" lang="hr-HR" sz="2800" spc="-1" strike="noStrike">
                <a:solidFill>
                  <a:srgbClr val="000000"/>
                </a:solidFill>
                <a:latin typeface="Constantia"/>
              </a:rPr>
              <a:t>jeti</a:t>
            </a:r>
            <a:r>
              <a:rPr b="0" lang="vi-V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ez obzira na to što su znatno umanjena sredstava za održavanje higijene u školama, u svakoj školi trebaju biti svjesni da higijena ne smije izost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Higijena prostora u kojem djeca rade i borave važna je za cjelokupno zdravlje i djece, nastavnika kao i cjelokupne zajedn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4000" spc="-1" strike="noStrike">
                <a:solidFill>
                  <a:srgbClr val="04617b"/>
                </a:solidFill>
                <a:latin typeface="Constantia"/>
              </a:rPr>
              <a:t>Pravilnik o kućnom redu </a:t>
            </a:r>
            <a:r>
              <a:rPr b="1" lang="hr-HR" sz="4000" spc="-1" strike="noStrike">
                <a:solidFill>
                  <a:srgbClr val="04617b"/>
                </a:solidFill>
                <a:latin typeface="Constantia"/>
              </a:rPr>
              <a:t>škole obuhvaća i </a:t>
            </a:r>
            <a:r>
              <a:rPr b="1" lang="vi-VN" sz="4000" spc="-1" strike="noStrike">
                <a:solidFill>
                  <a:srgbClr val="04617b"/>
                </a:solidFill>
                <a:latin typeface="Constantia"/>
              </a:rPr>
              <a:t>higijen</a:t>
            </a:r>
            <a:r>
              <a:rPr b="1" lang="hr-HR" sz="4000" spc="-1" strike="noStrike">
                <a:solidFill>
                  <a:srgbClr val="04617b"/>
                </a:solidFill>
                <a:latin typeface="Constantia"/>
              </a:rPr>
              <a:t>u u školi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 toaletima se ne s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mi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j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osjetiti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neugodan mi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To je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rvo pravilo poštovanja higijenskih uvjeta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To je nešto što se zna i podrazumijeva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i na tomu treba inzistirati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Dezinfekciona sredstva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u u uporabi pri svakodnevnom čišćenj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Za brzu dezinfekciju ruku može se nabaviti i tekući sapun koji je djelotvoran protiv bakterija i virusa, kao i tekući antiseptik za ruke koji uništava bakterije, viruse, gljivice i uzročnike tuberkuloz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Djeca bi redovito trebala čistiti i tastaturu svog i školskog računa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4617b"/>
                </a:solidFill>
                <a:latin typeface="Calibri"/>
              </a:rPr>
              <a:t>HIGIJENA-</a:t>
            </a:r>
            <a:br>
              <a:rPr sz="4000"/>
            </a:br>
            <a:r>
              <a:rPr b="1" lang="hr-HR" sz="4000" spc="-1" strike="noStrike">
                <a:solidFill>
                  <a:srgbClr val="04617b"/>
                </a:solidFill>
                <a:latin typeface="Calibri"/>
              </a:rPr>
              <a:t>temeljna odrednica pedagoškog ra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Jedna od polaznih pretpostavki za rad s učenicima s tim da im je neophodna i spremnost roditelj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Djeca u školu dolaze iz različitih obitelj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Higijena bi trebala biti važan segment život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Malo je učenika koji dolaze iz higijenski zapuštenih obitelji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Socijalna karta, koju svakako treba imati, pokazuje da s takvim učenicima i obiteljima treba dodatno radi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edagoško-psihološka služba, socijalni radnik, eventualno  defektolog su članovi tima u školi koji rade s djecom i socijalno ugroženim obitelji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4617b"/>
                </a:solidFill>
                <a:latin typeface="Calibri"/>
              </a:rPr>
              <a:t>Osobit pozor - PREHRA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Važno je naglasiti da je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hrana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jece u javnim i privatnim školama u našoj zemlji veoma različi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utricionisti, stručnjaci za pitanja prehrane, smatraju d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i 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roditelj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 nastavnic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osebnu pažnju trebali posvetit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avilnoj prehrani dje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hrana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promijeniti ponašanje i poboljšati intelektualni potencijal djece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svakako utječe na rast i razvo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6663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određenim školama posebno pripremljeni jelovnici doveli su do povećanja broja bodova u testovim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oje su radil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čen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u je važna i stručna uloga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astavn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a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vnateljstva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škola, jer dosta djece kupuje užinu u škol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ili njenoj blizin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 pojedinim ona i ne postoji, već djeca sam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upuju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užin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; najčešće kupuju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grickalice (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čips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, štapiće …)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i gazirana pića u obližnjim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trgovinama i brzu hranu (peciva) iz pekar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8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392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ijetki donose kvalitetnu hranu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od kuć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vakva, uglavnom nekvalitetna h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ran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(prazne kalorija bez potrebnih građevnih tvari)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odražav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a njihovo fizičko i psihičko zdravlj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rivatn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škol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 uglavnom dosta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ažnj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oklanj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u kvaliteti hran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svjež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, higijensk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j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i bakteriološk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j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ispravn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sti, nutricionističkoj vrijednosti..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elovnici u javnim školama mnogo su skromniji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Škola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jeca u školi provode u prosjeku od tri do šest sat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 njih je to drugi dom i stoga su izuzetno važni uvjeti u kojima bor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povoljni uvjeti mogu se negativno odraziti na dječji rast i razvo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fazi intenzivnog fizičkog rasta i psihičkog razvoja škole bi trebale biti mjesta jačanja zdravlja dječjeg  organiz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4617b"/>
                </a:solidFill>
                <a:latin typeface="Calibri"/>
              </a:rPr>
              <a:t>KVALITETA PREHRAN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1432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Stručnjaci su s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glasni u tome da bi djeca trebala smanjiti unos šećera, umjetnih boja, aroma, konzervansa, konzerviranog voća, povrća, te povećati unos svježeg voća i povrća, organskih proizvoda, integralnih žitarica, pšeničnih klica i slično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nstantia"/>
              </a:rPr>
              <a:t>To sve bi trebala osigurati kvalitetna školska kuhin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Svakako bi učenička užina trebala sadržavati voće i povrće, zbog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otrebe za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obilj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m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 vitamina i minera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Dugogodišnja ispitivanja su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pokazala da vitamin C doprinosi povećanju kvocijenta inteligencije i boljem vladanju učenik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Poznato je i to da vitamini B kompleksa pomažu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bolje </a:t>
            </a:r>
            <a:r>
              <a:rPr b="0" lang="vi-VN" sz="2400" spc="-1" strike="noStrike">
                <a:solidFill>
                  <a:srgbClr val="000000"/>
                </a:solidFill>
                <a:latin typeface="Times New Roman"/>
              </a:rPr>
              <a:t>pamćenj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 i intelektualne sposobn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vi-VN" sz="4000" spc="-1" strike="noStrike">
                <a:solidFill>
                  <a:srgbClr val="04617b"/>
                </a:solidFill>
                <a:latin typeface="Arial"/>
              </a:rPr>
              <a:t>Domaćinski odnos prema školi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Škola je specifična, profesionalna 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rofitna ustanov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Specifična je po tome što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b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je ljudi koji rade u njoj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rebal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oživljav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kao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rugu kuću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v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t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računa o tome da higijena bude na visokom nivou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uređivati ju i čuvat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kao kuću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-brinuti za zdravo ozračje kao kod kuće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54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4936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Svakako da bi u školama trebalo raditi i na osvješćivanju djece da školu doživljavaju kao svoj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dom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To se može postići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mocijom i poticanjem na 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i aktivizam na satima razrednika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jeću učenik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lobodnim aktivnostima pa i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odnevnom komunikacijom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treba motivirati za aktivno sudjelovanje novim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j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,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djelov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j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ipremi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provedbi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rograma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odizanje svijesti o 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nosti sveobuhvatne školske higijen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njihovoj ško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Škole-mjesto za djecu s onesposobljenj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499840"/>
            <a:ext cx="82296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zvijanje osjetljivosti i stvaranje uvjeta za artikulaciju i zadovoljavanje različitih individualnih potre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ez obzira na individualne različitosti svi želimo biti voljeni, osjećati pripadnost, želimo raditi i biti poštovan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62028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dovoljstvo vlastitim životom i prihvaćenost od ljudi kojima smo okruženi nesporno su ključni elementi kvalitete život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del inkluzije pruža svakoj zajednici prili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eagirati na način kojim će poticati razvoj cijele zajednice, time što će svaki njen član imati važnu ulogu i mjesto te biti cijenjen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ma primjena inkluzije u praksi možda se najbolje vidi na primjeru socijalnog modela pristupa hendikep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Djeca s onesposobljenjem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ri osnovna pralelna sustava (inkluzivni, mješoviti, specijalni) trebaju biti tako kompatibilni, koordinirani, elastični i fleksibilni da omogućavaju lak prijelaz ili klizanje iz jednog u drugi u oba prav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o znači da u nekom trenutku svog obrazovanja učenik sa posebnim potrebama, koji je dobro pripremljen u programu specijalne škole, može lako preći u redovnu školu i obrnu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ko se pokaže da učenik sa ometenošću ne uspijeva u redovitom sustavu obrazovanja može prijeći u specijal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ocijalni model polazi od pretpostavke da su položaji osoba i diskriminacija prema različitima ipak društveno uvjetova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dnosno, prepreke i predrasude koje društvo stvara su te koje ne pružaju jednake mogućnosti i koje dovode osobe sa onesposobljenjem u položaj diskriminira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ocijalni model podržava inkluzivno obrazovanje i suprotstavlja se medicinskom modelu koji promatra dijete s posebnim potrebama kao proizvod personalne deficijenci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000" spc="-1" strike="noStrike">
                <a:solidFill>
                  <a:srgbClr val="04617b"/>
                </a:solidFill>
                <a:latin typeface="Calibri"/>
              </a:rPr>
              <a:t>Inkluzi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 podrazumijeva izjednačavanje svih ljudi, nego uvažavanje različitosti svakog pojedin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tome i jeste njena vrijednost, jer nam kroz razvoj opće tolerancije prema individualnim razlikama i potrebama omogućava širenje spoznaja, obogaćivanje iskusta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kluzija svakom pojedincu pruža mogućnost odlučivanja o vlastitom životu i preuzimanje odgovor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4518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snovni cilj inkluzije je sveobuhvatno uključivanje osoba sa različitim oblicima onesposobljenja  i bilo kakvim drugim razlikama u širu socijalnu sredinu i sve redovite društvene aktivnosti kao i izjednačavanje prava tih osoba sa pravima svih ostalih članova neke društvene zajednice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ri su osnovna paralelna sustava školovanj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kluzivn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ješovit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pecijalni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rebaju biti tako kompatibilni, koordinirani, elastični i fleksibilni da omogućavaju lak prijelaz ili klizanje iz jednog u drug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8089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o znači da u nekom trenutku svog obrazovanja učenik s onesposobljenjem (posebnim potrebama) koji je dobro pripremljen u programu specijalne škole može lako preći u redovitu školu i obrnut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glavnom, u praksi je veći problem realno sagledavanje pozitivnih i negativnih strana određenog programa školovanja djece roditelja nego same djece!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04617b"/>
                </a:solidFill>
                <a:latin typeface="Calibri"/>
              </a:rPr>
              <a:t>Škola za promociju zdravlja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Škola koja konstantno jača svoje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apacitete kako bi postala što zdravije mjesto za život, učenje i r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ozitivno utječe na zdravlje i učenje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roz interakciju tri značajne oblast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stavnog procesa odnosno 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sadržaj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prakse nastave i učenj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organizacije rada u školi i suradnji službi kako na nivou škole tako i na nivou zajdnice u kojoj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e škola nalaz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04617b"/>
                </a:solidFill>
                <a:latin typeface="Calibri"/>
              </a:rPr>
              <a:t>Škola za promociju zdravlja se fokusira na: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Brigu za sebe i za drug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onošenje zdravih odluka kontrolom ponašanja i okolnosti – stilom života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Kreiranje u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jeta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koji </a:t>
            </a: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doprinose zdravlju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Constantia"/>
              </a:rPr>
              <a:t>Izgrađivanje kapaciteta za mir, edukaciju, jednakost, stabiln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 okruženje</a:t>
            </a:r>
            <a:r>
              <a:rPr b="0" lang="pl-PL" sz="2600" spc="-1" strike="noStrike">
                <a:solidFill>
                  <a:srgbClr val="000000"/>
                </a:solidFill>
                <a:latin typeface="Constantia"/>
              </a:rPr>
              <a:t>, socijalno pravo i održivi razvo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102312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prječavanje vodećih uzroka smrtnosti, obolijevanja 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nesposobljenost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louporabe duhana, alkohola i drog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edenternog načina život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vreda i nasilj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eadekvatne prehran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HIV/AIDS-a i drugih spolno prenosivih bole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tjecaj na ponašanje povezano sa zdravljem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nanje i vjerovanja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ještine i sposobnosti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rijednosti i podršk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666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tenzivne psihičke i fizičke promjene, različitost podrijetla, navika, obiteljskog života, materijalnih mogućnosti, prati osjetljivost djece prema bolestima u školskoj dobi: kako infektivnim i parazitarnim,  bolestima koštano-mišićnog i kardiovaskularnog sustava tako i psihičkim problem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hlada i gripa, zaušnjaci, hepatitis te meningitis najčešće su bolesti s kojima se djeca u školskoj dobi susreću.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Školska d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jeca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 lošim prehrambenim navikama, osobito su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sklona infektivnim bolesti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br>
              <a:rPr sz="4500"/>
            </a:br>
            <a:r>
              <a:rPr b="1" lang="vi-VN" sz="4500" spc="-1" strike="noStrike">
                <a:solidFill>
                  <a:srgbClr val="04617b"/>
                </a:solidFill>
                <a:latin typeface="Arial"/>
              </a:rPr>
              <a:t>Sprega pedagogije i higijene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poruke su stručnjaka za U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pravljanj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kvalitetom u obrazovanju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U pedagoškom smislu, djetetu se treba pristupati kao najvažnijem “klijentu”, a roditelju kao parntne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Roditelje pokuša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ti 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educirati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, pa čak i preko djece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, a nastavnike usmjerava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ti 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tako da ih se učenici ne boj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j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cu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 nastoj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ati  r</a:t>
            </a:r>
            <a:r>
              <a:rPr b="0" lang="vi-VN" sz="2400" spc="-1" strike="noStrike">
                <a:solidFill>
                  <a:srgbClr val="000000"/>
                </a:solidFill>
                <a:latin typeface="Constantia"/>
              </a:rPr>
              <a:t>asteretiti stresa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i stvoriti osjećaj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ŠKOLE - PRIJATELJA DJE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52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4617b"/>
                </a:solidFill>
                <a:latin typeface="Calibri"/>
              </a:rPr>
              <a:t>Potreba sinergije u stavovima škole i roditelj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 dobre rezultate u školstvu neophodna je sinergij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sobnu kulturu i higijenu djeca nose od kuće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Škola, mediji i okruženje dosta toga nameć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4617b"/>
                </a:solidFill>
                <a:latin typeface="Calibri"/>
              </a:rPr>
              <a:t>Osnovnu higijenu u školi održavati kao kod kuć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Higijena ruku izuzetno je važna jer se prljavim rukama šire mnoge zarazne  i parazitarne bole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 toaletima bi trebala biti instalirani uređaji s toplom vodom, tekućim sapunom, toaletnim papirom, kantom za otpatke na pedal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avi rasadnik virusa u školi je spužva za brisanje ploč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bog toga bi ju trebalo češće mijenja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09:19:12Z</dcterms:created>
  <dc:creator>zavod</dc:creator>
  <dc:description/>
  <dc:language>en-US</dc:language>
  <cp:lastModifiedBy>Sanda Mandić</cp:lastModifiedBy>
  <dcterms:modified xsi:type="dcterms:W3CDTF">2013-12-16T12:37:27Z</dcterms:modified>
  <cp:revision>63</cp:revision>
  <dc:subject/>
  <dc:title>HIGIJENA STANOVANJA</dc:title>
</cp:coreProperties>
</file>