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B41F-90FD-49E3-ADF6-7378EA8A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3E5E-6B43-4F79-BA7D-B684CAD4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E6C-7006-46C0-BFC4-EFE66F68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988-28B1-402A-9E8D-9E04338C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AB48-A53C-4382-89DC-3CAFBF8A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A099-847D-4991-B74C-748529FF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3717-CEE4-4855-BAFA-2AE91BB2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FFC-55C5-413C-915C-3AB3CC73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8C0D-808A-4989-B760-0277D3ED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B186-97F9-4EF7-90FE-16825357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5642-46AB-49C9-B27A-37451C6A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8E40-5795-4068-9E03-0B84EB69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932E-D6D3-4D73-820F-BB918C3E1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9280" y="1901520"/>
            <a:ext cx="7772400" cy="137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600" spc="-1" strike="noStrike">
                <a:solidFill>
                  <a:srgbClr val="ffffff"/>
                </a:solidFill>
                <a:latin typeface="Calibri"/>
              </a:rPr>
              <a:t>Zamor i oporavak sportaš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714920"/>
            <a:ext cx="640080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000000"/>
                </a:solidFill>
                <a:latin typeface="Calibri"/>
              </a:rPr>
              <a:t>Prim. mr.sc. Gordana Pivi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9280" y="6811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600" spc="-1" strike="noStrike">
                <a:solidFill>
                  <a:srgbClr val="ffffff"/>
                </a:solidFill>
                <a:latin typeface="Calibri"/>
              </a:rPr>
              <a:t>Oporavak sportaš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49280" y="174924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Jednako važan kao i sam tr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Vraćanje homeostaze, sposobnost sportaš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na početni ni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Anabolična faza (katabolična faz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Vraćanje na početnu razinu nije istovremeno (heterokronost) u svim sustavi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Potpuna kompenzacija – potpuni oporavak neke sposobnosti koja je bila najviše uključena u r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Superkompenzacija (nadoporavak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9280" y="6811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600" spc="-1" strike="noStrike">
                <a:solidFill>
                  <a:srgbClr val="ffffff"/>
                </a:solidFill>
                <a:latin typeface="Calibri"/>
              </a:rPr>
              <a:t>Oporavak sportaš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9280" y="1857240"/>
            <a:ext cx="822960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Trening se može obaviti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nakon opora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nakon nedovoljnog opora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nakon nepotpune kompenz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nakon završetka superkompenzatornog vala u vrijeme superkompenz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Trening faza iscrpljenja, a oporavak faza kompenzacije i superkompenzacije (zbog treniranost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9280" y="6811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600" spc="-1" strike="noStrike">
                <a:solidFill>
                  <a:srgbClr val="ffffff"/>
                </a:solidFill>
                <a:latin typeface="Calibri"/>
              </a:rPr>
              <a:t>Oporavak sportaš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48920" y="1928520"/>
            <a:ext cx="84805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000000"/>
                </a:solidFill>
                <a:latin typeface="Calibri"/>
              </a:rPr>
              <a:t>Faze oporavka:</a:t>
            </a:r>
            <a:br>
              <a:rPr sz="2800"/>
            </a:b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a) brza faza – nakon opterećenja 0.5 – 1.5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uklanja dug kisika i nagomilane proizvode anaerobnog metabolizma</a:t>
            </a:r>
            <a:br>
              <a:rPr sz="2800"/>
            </a:b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b) kasna faza – više sati nakon rada završava se obnova energetskih rezerv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Najbrže se obnove rezerve kisika, ATP-a, CP-a (za nekoliko minuta), potom rezerve mišićnog glikogena i glikogena u jetri. Na kraju se obnavljaju masti i protei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9280" y="6811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600" spc="-1" strike="noStrike">
                <a:solidFill>
                  <a:srgbClr val="ffffff"/>
                </a:solidFill>
                <a:latin typeface="Calibri"/>
              </a:rPr>
              <a:t>Sredstva oporav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49280" y="2428920"/>
            <a:ext cx="82296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Trenaž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Psihološ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Medicin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9280" y="6811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600" spc="-1" strike="noStrike">
                <a:solidFill>
                  <a:srgbClr val="ffffff"/>
                </a:solidFill>
                <a:latin typeface="Calibri"/>
              </a:rPr>
              <a:t>1. Trenažna sredstva oporav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49280" y="16430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osnovna sredstv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dobro planiran i proveden proces sportskog trenin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optimalno smanjivanje trenažnih i natjecateljskih opterećenja i odm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primjena raznovrsnih sredstava i metoda trenin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promjena uvjeta i mjesta trenin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ritam treninga i život sportaš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9280" y="6811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600" spc="-1" strike="noStrike">
                <a:solidFill>
                  <a:srgbClr val="ffffff"/>
                </a:solidFill>
                <a:latin typeface="Calibri"/>
              </a:rPr>
              <a:t>2. Psihološka sredstva oporav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49280" y="2143080"/>
            <a:ext cx="8229600" cy="35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Pomažu reguliranju psihičkog st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Metode sugestije i samosugest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9280" y="6811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600" spc="-1" strike="noStrike">
                <a:solidFill>
                  <a:srgbClr val="ffffff"/>
                </a:solidFill>
                <a:latin typeface="Calibri"/>
              </a:rPr>
              <a:t>3. Medicinska sredstva oporav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48920" y="1928880"/>
            <a:ext cx="81946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600" spc="-1" strike="noStrike">
                <a:solidFill>
                  <a:srgbClr val="000000"/>
                </a:solidFill>
                <a:latin typeface="Calibri"/>
              </a:rPr>
              <a:t>Energetsko-supstitucijsk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BA" sz="2600" spc="-1" strike="noStrike">
                <a:solidFill>
                  <a:srgbClr val="000000"/>
                </a:solidFill>
                <a:latin typeface="Calibri"/>
              </a:rPr>
              <a:t>(sportska prehrana i energetski balan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600" spc="-1" strike="noStrike">
                <a:solidFill>
                  <a:srgbClr val="000000"/>
                </a:solidFill>
                <a:latin typeface="Calibri"/>
              </a:rPr>
              <a:t>Stimulativna sredstva (dozvoljena i nedozvoljen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600" spc="-1" strike="noStrike">
                <a:solidFill>
                  <a:srgbClr val="000000"/>
                </a:solidFill>
                <a:latin typeface="Calibri"/>
              </a:rPr>
              <a:t>Dozvoljena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600" spc="-1" strike="noStrike">
                <a:solidFill>
                  <a:srgbClr val="000000"/>
                </a:solidFill>
                <a:latin typeface="Calibri"/>
              </a:rPr>
              <a:t>dodatci prehrani (vitamini i minerali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600" spc="-1" strike="noStrike">
                <a:solidFill>
                  <a:srgbClr val="000000"/>
                </a:solidFill>
                <a:latin typeface="Calibri"/>
              </a:rPr>
              <a:t>Energejzer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600" spc="-1" strike="noStrike">
                <a:solidFill>
                  <a:srgbClr val="000000"/>
                </a:solidFill>
                <a:latin typeface="Calibri"/>
              </a:rPr>
              <a:t>Protein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600" spc="-1" strike="noStrike">
                <a:solidFill>
                  <a:srgbClr val="000000"/>
                </a:solidFill>
                <a:latin typeface="Calibri"/>
              </a:rPr>
              <a:t>fizioterapija, elektrostimulacija, masaža, sauna, barokomora, boravak na umjerenim visin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9280" y="6811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200" spc="-1" strike="noStrike">
                <a:solidFill>
                  <a:srgbClr val="ffffff"/>
                </a:solidFill>
                <a:latin typeface="Calibri"/>
              </a:rPr>
              <a:t>3. Medicinska sredstva oporav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9280" y="1749600"/>
            <a:ext cx="822960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600" spc="-1" strike="noStrike">
                <a:solidFill>
                  <a:srgbClr val="000000"/>
                </a:solidFill>
                <a:latin typeface="Calibri"/>
              </a:rPr>
              <a:t>Nedozvoljena sredstv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600" spc="-1" strike="noStrike">
                <a:solidFill>
                  <a:srgbClr val="000000"/>
                </a:solidFill>
                <a:latin typeface="Calibri"/>
              </a:rPr>
              <a:t>anabolički agensi (anabolički androgeni steroidi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600" spc="-1" strike="noStrike">
                <a:solidFill>
                  <a:srgbClr val="000000"/>
                </a:solidFill>
                <a:latin typeface="Calibri"/>
              </a:rPr>
              <a:t>hormoni i srodne supstance (hormon rast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600" spc="-1" strike="noStrike">
                <a:solidFill>
                  <a:srgbClr val="000000"/>
                </a:solidFill>
                <a:latin typeface="Calibri"/>
              </a:rPr>
              <a:t>ß₂ agonis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600" spc="-1" strike="noStrike">
                <a:solidFill>
                  <a:srgbClr val="000000"/>
                </a:solidFill>
                <a:latin typeface="Calibri"/>
              </a:rPr>
              <a:t>diuretic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600" spc="-1" strike="noStrike">
                <a:solidFill>
                  <a:srgbClr val="000000"/>
                </a:solidFill>
                <a:latin typeface="Calibri"/>
              </a:rPr>
              <a:t>agensi s antiestrogenom aktivnošć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600" spc="-1" strike="noStrike">
                <a:solidFill>
                  <a:srgbClr val="000000"/>
                </a:solidFill>
                <a:latin typeface="Calibri"/>
              </a:rPr>
              <a:t>stimulansi (amfetamini, efedri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600" spc="-1" strike="noStrike">
                <a:solidFill>
                  <a:srgbClr val="000000"/>
                </a:solidFill>
                <a:latin typeface="Calibri"/>
              </a:rPr>
              <a:t>narkotici (heroin, morfi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600" spc="-1" strike="noStrike">
                <a:solidFill>
                  <a:srgbClr val="000000"/>
                </a:solidFill>
                <a:latin typeface="Calibri"/>
              </a:rPr>
              <a:t>kanabinoidi (hašiš, marihuan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600" spc="-1" strike="noStrike">
                <a:solidFill>
                  <a:srgbClr val="000000"/>
                </a:solidFill>
                <a:latin typeface="Calibri"/>
              </a:rPr>
              <a:t>glukokortikosteroidi (ne per os, ne IV, ne IM, samo po preporuci i indikaciji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9280" y="6811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600" spc="-1" strike="noStrike">
                <a:solidFill>
                  <a:srgbClr val="ffffff"/>
                </a:solidFill>
                <a:latin typeface="Calibri"/>
              </a:rPr>
              <a:t>Zabranjene meto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49280" y="1928520"/>
            <a:ext cx="8229600" cy="37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Krvni do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Kemijske i fizičke manipul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Genski do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Alkoho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Pušenj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9280" y="6811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ffffff"/>
                </a:solidFill>
                <a:latin typeface="Calibri"/>
              </a:rPr>
              <a:t>Zam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8760" y="207144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Specifično fiziološko stanje nakon napornog fiziološkog r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Privremeno smanjenje radne sposob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Obrambena reakcija na pretjeranu iscrplje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Stanje privremenog sniženja sposobnosti za obavljanje rada, a prouzrokovano tim radom ili nekom drugom fizičkom aktivnošć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9280" y="6811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ffffff"/>
                </a:solidFill>
                <a:latin typeface="Calibri"/>
              </a:rPr>
              <a:t>Zam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28760" y="1928520"/>
            <a:ext cx="8229600" cy="39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000000"/>
                </a:solidFill>
                <a:latin typeface="Calibri"/>
              </a:rPr>
              <a:t>Uzro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iscrpljenost SŽ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narušavanje živčane i hormonske regula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iscrpljenost energetskih rezerv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promjena homeosta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sniženje enzimske aktiv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9280" y="681120"/>
            <a:ext cx="7051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600" spc="-1" strike="noStrike">
                <a:solidFill>
                  <a:srgbClr val="ffffff"/>
                </a:solidFill>
                <a:latin typeface="Calibri"/>
              </a:rPr>
              <a:t>Biološke promjene koje dovode do fiziološkog zamor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49280" y="1749600"/>
            <a:ext cx="833760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700" spc="-1" strike="noStrike">
                <a:solidFill>
                  <a:srgbClr val="000000"/>
                </a:solidFill>
                <a:latin typeface="Calibri"/>
              </a:rPr>
              <a:t>Hipertermija &gt; 39C° zaustavlja enzimsku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r-BA" sz="2700" spc="-1" strike="noStrike">
                <a:solidFill>
                  <a:srgbClr val="000000"/>
                </a:solidFill>
                <a:latin typeface="Calibri"/>
              </a:rPr>
              <a:t>aktivnost i stvaranje energij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700" spc="-1" strike="noStrike">
                <a:solidFill>
                  <a:srgbClr val="000000"/>
                </a:solidFill>
                <a:latin typeface="Calibri"/>
              </a:rPr>
              <a:t>Dehidracija: povećano znojenje → dehidracija → smanjena cirkulirajuća tečnost → hemokoncentracija → povećana viskoznost krv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700" spc="-1" strike="noStrike">
                <a:solidFill>
                  <a:srgbClr val="000000"/>
                </a:solidFill>
                <a:latin typeface="Calibri"/>
              </a:rPr>
              <a:t>Smanjenje volumena krvi → otežava srčanu aktivno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700" spc="-1" strike="noStrike">
                <a:solidFill>
                  <a:srgbClr val="000000"/>
                </a:solidFill>
                <a:latin typeface="Calibri"/>
              </a:rPr>
              <a:t>Iscrpljenje energetskih nivo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700" spc="-1" strike="noStrike">
                <a:solidFill>
                  <a:srgbClr val="000000"/>
                </a:solidFill>
                <a:latin typeface="Calibri"/>
              </a:rPr>
              <a:t>Smanjenje glikogena u mišićima i jetri → smanjeno obnavljanje ATP-a i CP-a → smanjena sposobnost za rad</a:t>
            </a:r>
            <a:br>
              <a:rPr sz="2700"/>
            </a:br>
            <a:r>
              <a:rPr b="0" lang="hr-BA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9280" y="6811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600" spc="-1" strike="noStrike">
                <a:solidFill>
                  <a:srgbClr val="ffffff"/>
                </a:solidFill>
                <a:latin typeface="Calibri"/>
              </a:rPr>
              <a:t>Biološke promjene koje dovode do fiziološkog zamor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49280" y="174960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Iscrpljenje depoa neurotransmiter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Smanjenje živčane aktivnosti i mišićne aktiv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Iscrpljenje depoa oksidativnih enzima (dehidrogenaza...) ograničava anaerobno stvaranje energije i prelazak na anaerobne glikolitičke proc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Sniženje PH vrijednosti  (zbog nagomilavanja mliječne kiseline tijekom napornog anaerobnog rada javlja se bol u mišićima i zam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9280" y="6811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600" spc="-1" strike="noStrike">
                <a:solidFill>
                  <a:srgbClr val="ffffff"/>
                </a:solidFill>
                <a:latin typeface="Calibri"/>
              </a:rPr>
              <a:t>Podjela zamo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49280" y="207180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Calibri"/>
              </a:rPr>
              <a:t>Na osnovu vidljivih manifestacij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(boja lica, znojenje, disanje, kretanje, pažnj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subjektivni osjećaj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lagani zam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znatan zam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prem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9280" y="6811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600" spc="-1" strike="noStrike">
                <a:solidFill>
                  <a:srgbClr val="ffffff"/>
                </a:solidFill>
                <a:latin typeface="Calibri"/>
              </a:rPr>
              <a:t>Podjela zamo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49280" y="2143080"/>
            <a:ext cx="8229600" cy="35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Calibri"/>
              </a:rPr>
              <a:t>prema faz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skriveni (savladivi) rad na istom nivou zbo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poticaja i SŽ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manifestni (nesavladivi) - slabi stimulacija SŽS za mišićnu kontrakciju i tako slabi mišićni r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9280" y="6811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600" spc="-1" strike="noStrike">
                <a:solidFill>
                  <a:srgbClr val="ffffff"/>
                </a:solidFill>
                <a:latin typeface="Calibri"/>
              </a:rPr>
              <a:t>Podjela zamo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9280" y="1999800"/>
            <a:ext cx="8229600" cy="36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Calibri"/>
              </a:rPr>
              <a:t>prema lokalizac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periferni (promjena na nivou mišić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centralni (promjena u SŽ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000000"/>
                </a:solidFill>
                <a:latin typeface="Calibri"/>
              </a:rPr>
              <a:t>periferni</a:t>
            </a: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lokalni (pojedini mišići 30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regionalni (mišići određene skupine 70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opći (velike skupine mišić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9280" y="6811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600" spc="-1" strike="noStrike">
                <a:solidFill>
                  <a:srgbClr val="ffffff"/>
                </a:solidFill>
                <a:latin typeface="Calibri"/>
              </a:rPr>
              <a:t>Podjela zamo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49280" y="1999800"/>
            <a:ext cx="82296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Calibri"/>
              </a:rPr>
              <a:t>Fiziološke osno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smanjuje se prijenos impul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ekscitabilnost mišićnih vlak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energetske rezer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000000"/>
                </a:solidFill>
                <a:latin typeface="Calibri"/>
              </a:rPr>
              <a:t>centraln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procesi aktivno ograničavaju sposobnost podnošenja optereće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Calibri"/>
              </a:rPr>
              <a:t>izostajanje funkcije zbog narušavanja homeostatskih mehaniza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7Z</dcterms:created>
  <dc:creator>Julian</dc:creator>
  <dc:description/>
  <dc:language>en-US</dc:language>
  <cp:lastModifiedBy>Ibler1</cp:lastModifiedBy>
  <dcterms:modified xsi:type="dcterms:W3CDTF">2016-01-11T09:18:18Z</dcterms:modified>
  <cp:revision>41</cp:revision>
  <dc:subject/>
  <dc:title>PowerPoint Presentation</dc:title>
</cp:coreProperties>
</file>