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44B-237B-4C07-8D90-AEE14228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DEC-EABD-4E8D-ACE1-7801FD43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652-1F2B-4837-BF87-5663E458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E9A-A7A5-4020-9F30-B3234550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F7CD-B16F-4DE1-BA29-696BF07D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334-8288-4F4B-8E7D-AF47498B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118-AA7B-4DC7-9FA5-FE39CF2F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A460-284D-4B11-B16A-4FD1BAFF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24D-65D7-4586-B377-2E44216E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B94-D81C-425A-870E-FCE16A8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5A0-062B-4C6D-AA10-85F9C2B7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BDC-A8C0-4006-94E6-A15B2B88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2236-425A-431B-BA58-91FBDD8F79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4642920"/>
            <a:ext cx="59547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ffffff"/>
                </a:solidFill>
                <a:latin typeface="Arial"/>
              </a:rPr>
              <a:t>TRENAŽNE MET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428840" y="557208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400" spc="-1" strike="noStrike">
                <a:solidFill>
                  <a:srgbClr val="ffffff"/>
                </a:solidFill>
                <a:latin typeface="Arial"/>
              </a:rPr>
              <a:t>Prim. mr.sc. Gordana Pivi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857240"/>
            <a:ext cx="8472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Intervaln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Izmjena intervala rada i intervala odmora; Interv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odmora osigurava oporavak organizma i pripr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za sljedeći radni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Intervalna standardna metoda: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ve varijable opterećenja treba držati na istom nivou (broj ponavljanja, dužina dionice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Intervalna varijabilna metoda: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Varijable opterećenja se mijenjaju (može i samo je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načinu</a:t>
            </a:r>
            <a:br>
              <a:rPr sz="4400"/>
            </a:b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opterećenja sportaš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287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Karakteristike intervalnih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izvode se u uvjetima duga ki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nagomilavanje mliječne ki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zitivno utječe na razvoj sportaševog anaerobnog radnog kapacit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načinu </a:t>
            </a:r>
            <a:br>
              <a:rPr sz="4400"/>
            </a:b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opterećenja sportaš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004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Koncentrična mišićna kontra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išićna sila &gt; vanjska sila (opterećen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vladava u dinamičnom procesu mišić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Ekscentrična mišićna kontra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išićna sila &lt; vanjska sila (opterećen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vjeti popuštajućeg mišićn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Izometrička metoda rada (statič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išićna sila = vanjska s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zadržavanje položaja na nekoj razini vanjskih optereće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tipu kontra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Važna komponenta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Najveće greške pri nepravilnom doziranju ukupnog opterećenja ili pogrešnom doziranju komponenti ekstenziteta i intenziteta podražaja (trajanja i jač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Metoda ekstenzivnog trenažnog rad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(kontinuirani ili intervalni rad) - koriste se u razvoju izdržljiv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Produžen radni interval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Srednji intenzitet opterećenj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Relativno kratak odmor (ako je interval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razini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Metoda intenzivnog trenažnog rada: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boljšava snagu, brzinu i izdržljiv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Visok tempo i intenzitet vježbanj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Manji broj ponavljanj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Kraća dionic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Produženi interval odm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razini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razini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Metoda maksimalnog trenažnog rada: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luži za podizanje brzinskih svoj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Maksimalan tempo izvođenj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Smanjenje radnog intervala (kratka dionica)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Pauza duga, duža od trenažne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0001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aboličke forme mogu se različito definir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700" spc="-1" strike="noStrike">
                <a:solidFill>
                  <a:srgbClr val="000000"/>
                </a:solidFill>
                <a:latin typeface="Arial"/>
              </a:rPr>
              <a:t>Metoda postaje </a:t>
            </a:r>
            <a:r>
              <a:rPr b="0" lang="hr-BA" sz="2700" spc="-1" strike="noStrike">
                <a:solidFill>
                  <a:srgbClr val="000000"/>
                </a:solidFill>
                <a:latin typeface="Arial"/>
              </a:rPr>
              <a:t>– trenažni rad se odvija u više serija, s određenim brojem ponavljanja na jednom radnom zadatku, s dužim odmori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700" spc="-1" strike="noStrike">
                <a:solidFill>
                  <a:srgbClr val="000000"/>
                </a:solidFill>
                <a:latin typeface="Arial"/>
              </a:rPr>
              <a:t>Metoda krugova </a:t>
            </a:r>
            <a:r>
              <a:rPr b="0" lang="hr-BA" sz="2700" spc="-1" strike="noStrike">
                <a:solidFill>
                  <a:srgbClr val="000000"/>
                </a:solidFill>
                <a:latin typeface="Arial"/>
              </a:rPr>
              <a:t>– u više krugova, jedna serija s određenim brojem ponavljanja, kraći odmor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700" spc="-1" strike="noStrike">
                <a:solidFill>
                  <a:srgbClr val="000000"/>
                </a:solidFill>
                <a:latin typeface="Arial"/>
              </a:rPr>
              <a:t>Metoda cirkulara </a:t>
            </a:r>
            <a:r>
              <a:rPr b="0" lang="hr-BA" sz="2700" spc="-1" strike="noStrike">
                <a:solidFill>
                  <a:srgbClr val="000000"/>
                </a:solidFill>
                <a:latin typeface="Arial"/>
              </a:rPr>
              <a:t>– bez odmor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700" spc="-1" strike="noStrike">
                <a:solidFill>
                  <a:srgbClr val="000000"/>
                </a:solidFill>
                <a:latin typeface="Arial"/>
              </a:rPr>
              <a:t>Metoda poligona </a:t>
            </a:r>
            <a:r>
              <a:rPr b="0" lang="hr-BA" sz="2700" spc="-1" strike="noStrike">
                <a:solidFill>
                  <a:srgbClr val="000000"/>
                </a:solidFill>
                <a:latin typeface="Arial"/>
              </a:rPr>
              <a:t>– kontinuirani rad, različitih motoričkih aktivnosti s i bez trenažnih pomagal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r-BA" sz="2500" spc="-1" strike="noStrike">
                <a:solidFill>
                  <a:srgbClr val="000000"/>
                </a:solidFill>
                <a:latin typeface="Arial"/>
              </a:rPr>
              <a:t>MOGUĆA I KOMBINAC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metaboličkim oblicima trenažnog 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28400" y="1499760"/>
            <a:ext cx="8429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000000"/>
                </a:solidFill>
                <a:latin typeface="Arial"/>
              </a:rPr>
              <a:t>Podjel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rema načinu prenošenja motoričkih informac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verbaln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(usmeno izlaganje o motoričkim zadatc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vizualn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(korištenje slikovnih materija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motoričk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(demonstrac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problemsk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(postavljanje motoričkog zadatka bez objašnjenja); jednostavni i složeni zadat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oučavanja u spor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428480"/>
            <a:ext cx="83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rema načinu usvajanja motoričkih za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 osnovi je isti proces. Informacija se o gibanju 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ŽS prerađuje i stvara se predodžba kako gib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treba izgled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analitička</a:t>
            </a:r>
            <a:r>
              <a:rPr b="0" i="1" lang="h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(učenje pojedinih dijelova ili etapa nakon usvajanja i određenog vremena integriraju se u cjelinu)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risti se kod složenih zadataka s velikim brojem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Nedostat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portaši ne vide cilj, “dosadno im je”; kasnije teško povezivanje u cjel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oučavanja u spor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oučavanja u spor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sintetičk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(učenje zadataka kao cjeline s ciljem izvedbe najvažnije motoričke aktivnos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rednosti: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formira se ispravna predodžba o cjelini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usvaja se pravilan ritam gibanj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motiv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Nedostatci: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pojedine etape mogu biti nedovoljno usvojene ili neprecizno usvoje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28400" y="1785960"/>
            <a:ext cx="80722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Način provođenja različitih trenažnih aktivnosti ili operat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recizno definirani procesi, oblici, forme i načini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smjereni na razvoj sposobnosti sportaša</a:t>
            </a: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smjereni na svladavanje tehničko-taktičkih za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sportskog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oučavanja u spor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40096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situacijska</a:t>
            </a: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(učenje elemenata tehnike i taktike u uvjetima koji odgovaraju natjecateljskim prilikama)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četak može biti sintetička metoda ali je završna situacij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ideomotorička</a:t>
            </a: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(sportaš misaono reproducira zadani motorički zadat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Iterativna</a:t>
            </a: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(stalno i višekratno ponavljanje gibanja radi potpunog usvajanja, do razine automatiz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99"/>
                </a:solidFill>
                <a:latin typeface="Arial"/>
              </a:rPr>
              <a:t>Trenažna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99"/>
                </a:solidFill>
                <a:latin typeface="Arial"/>
              </a:rPr>
              <a:t>Trenažna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46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Određena veličina djelovanja trenažnih sredstava na funkcionalnu strukturu organizma sportaš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Vanjs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Unutar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Vanjsko TO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ože se ocjenivati u kvalitativnim i kvantitativnim vrijednostima (npr. savladavanje rastojanja, utrošeno vrijeme, dostignuti n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99"/>
                </a:solidFill>
                <a:latin typeface="Arial"/>
              </a:rPr>
              <a:t>Trenažna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Unutarnje TO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karakterizira se veličinom odgovarajućih reakcija organizma tj. stupnjem morfoloških, motoričkih, fizioloških, kognitivnih i drugih promjena u osobitosti sportaša pod utjecajem trenažnih sredstava i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đusobna uvjetovanost ova dva tipa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99"/>
                </a:solidFill>
                <a:latin typeface="Arial"/>
              </a:rPr>
              <a:t>Trenažna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arametri kvantifikacije veličin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opseg optere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intenzitet optere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Opseg optere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kupan zbroj rada na treningu, odnosno ukupna količina rada koja može biti izražena u broju vježbanja ili treninga, u ukupnim brojčanim jedinicama, kao i u pojedinačnim vremenskim jedinicama, dužinskim jedinicama i sl.</a:t>
            </a:r>
            <a:br>
              <a:rPr sz="2700"/>
            </a:br>
            <a:r>
              <a:rPr b="0" lang="hr-BA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99"/>
                </a:solidFill>
                <a:latin typeface="Arial"/>
              </a:rPr>
              <a:t>Trenažna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Intenzitet opterećenja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stupanj uloženog napora u trenažnom radu, a izražava se parametrima učestalosti ponavljanja nekog rada u jedinici vremena, količini rada, brzini pokret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00099"/>
                </a:solidFill>
                <a:latin typeface="Arial"/>
              </a:rPr>
              <a:t>Trenažna optereće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Opseg i intenzitet opterećenja povezani su i prate se ali samo do određene gran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Određivanje optimalnih trenažnih opterećenja je složen pro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Dobiva se primjenom matematičko-kibernetičkim metod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42960" y="1357200"/>
            <a:ext cx="8153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Dvije osnovne skupi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e vježb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riste se za razvoj i održavanje različitih        antropoloških sp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 osnovi su energetski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25198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e pouča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riste se u usvajanju i usavršavanju tehničko-taktičkih zn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 osnovi su informacijski proc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2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8000" indent="-46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Međusobno tijesno povezane met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sportskog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Izbor metoda ovisi 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pecifičnosti sportske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postavljenim ciljevima i zadatc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razvojnim obilježjima sporta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stupnju sportske trenira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uvjetima odvijanja trenažnog proc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sportskog trenin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21392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Klasifikacija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rema načinu opterećenja sportaš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ntinui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intervaln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mbiniran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rema režimu trenažn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a dinamičk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a statičk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mbiniran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vježb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niOkvir 3"/>
          <p:cNvSpPr/>
          <p:nvPr/>
        </p:nvSpPr>
        <p:spPr>
          <a:xfrm>
            <a:off x="4357800" y="25718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400" spc="-1" strike="noStrike">
                <a:solidFill>
                  <a:srgbClr val="025198"/>
                </a:solidFill>
                <a:latin typeface="Arial"/>
              </a:rPr>
              <a:t>* Uz standardno i  varijabilno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400" spc="-1" strike="noStrike">
                <a:solidFill>
                  <a:srgbClr val="025198"/>
                </a:solidFill>
                <a:latin typeface="Arial"/>
              </a:rPr>
              <a:t>   </a:t>
            </a:r>
            <a:r>
              <a:rPr b="1" lang="hr-BA" sz="2400" spc="-1" strike="noStrike">
                <a:solidFill>
                  <a:srgbClr val="025198"/>
                </a:solidFill>
                <a:latin typeface="Arial"/>
              </a:rPr>
              <a:t>optereć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rema tipu mišićne kontra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a izometričke kontra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a koncentrične kontra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a ekscentrične kontrak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mbiniran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rema razini optere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a ekstenzivnog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a intenzivnog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etoda maksimalnog treni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kombinirana met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vježb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143080"/>
            <a:ext cx="84009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Prema metaboličkim oblicima trenažn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metoda postaje 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metoda cirkular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metoda krugova</a:t>
            </a:r>
            <a:br>
              <a:rPr sz="2800"/>
            </a:b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- metoda polig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vježb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2800" spc="-1" strike="noStrike">
                <a:solidFill>
                  <a:srgbClr val="000000"/>
                </a:solidFill>
                <a:latin typeface="Arial"/>
              </a:rPr>
              <a:t>Kontinuirana metoda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(trajna) - aktivnost se odvija bez prek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kontinuirana standardna: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 razina opterećenja održava se od početka do kraja trenažne aktiv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BA" sz="2800" spc="-1" strike="noStrike">
                <a:solidFill>
                  <a:srgbClr val="000000"/>
                </a:solidFill>
                <a:latin typeface="Arial"/>
              </a:rPr>
              <a:t>kontinuirana varijabilna: </a:t>
            </a:r>
            <a:r>
              <a:rPr b="0" lang="hr-BA" sz="2800" spc="-1" strike="noStrike">
                <a:solidFill>
                  <a:srgbClr val="000000"/>
                </a:solidFill>
                <a:latin typeface="Arial"/>
              </a:rPr>
              <a:t>mijenja se intenzitet optereć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načinu</a:t>
            </a:r>
            <a:br>
              <a:rPr sz="4400"/>
            </a:b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opterećenja sportaš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3200" spc="-1" strike="noStrike">
                <a:solidFill>
                  <a:srgbClr val="000000"/>
                </a:solidFill>
                <a:latin typeface="Arial"/>
              </a:rPr>
              <a:t>Prednos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poboljšava aktivnost aerobnih proc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ekonomičniji rad mišić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povećanje glikogena u mišićima i je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Arial"/>
              </a:rPr>
              <a:t>bolji rad srčanožilnog i dišnog su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Metode prema načinu</a:t>
            </a:r>
            <a:br>
              <a:rPr sz="4400"/>
            </a:br>
            <a:r>
              <a:rPr b="1" lang="hr-BA" sz="4400" spc="-1" strike="noStrike">
                <a:solidFill>
                  <a:srgbClr val="025198"/>
                </a:solidFill>
                <a:latin typeface="Arial"/>
              </a:rPr>
              <a:t>opterećenja sportaš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Ibler1</cp:lastModifiedBy>
  <dcterms:modified xsi:type="dcterms:W3CDTF">2016-01-11T09:17:46Z</dcterms:modified>
  <cp:revision>647</cp:revision>
  <dc:subject/>
  <dc:title>Diapositiva 1</dc:title>
</cp:coreProperties>
</file>