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E195-B62C-44B2-9C60-E31A9A9C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E739-8036-470C-B11A-82194240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429D-71FF-4782-BA38-00151C6E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AF82-4556-4FFA-9696-43A99C20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7551-E00B-45E2-A10C-D95FCAE8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3CD3-234D-46CD-A2B0-7274022E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751C-ED6D-4D76-BEB1-F6798FD6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E715-044E-4367-8BAC-9DFF40F5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4840-C135-4240-A7DD-27DB5D81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A557-2178-4BA6-8E2F-A1964425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56C1-7DA7-4531-8966-F61B7803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C753-00F2-4C3B-B64A-4FBE81F1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6368-EAC0-4E4B-A5DB-F90DAF06DF4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667692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000" spc="-1" strike="noStrike">
                <a:solidFill>
                  <a:srgbClr val="360036"/>
                </a:solidFill>
                <a:latin typeface="Arial"/>
              </a:rPr>
              <a:t>ZAKONITOSTI SPORTSKOG TRENIN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428760" y="250020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00000"/>
                </a:solidFill>
                <a:latin typeface="Arial"/>
              </a:rPr>
              <a:t>Kontinuiranost trenin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430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Sportski trening je dugoročan proces usavršavanja, odvija se kontinuirano bez prekida, sa stalnim smjenjivanjem intervala rada i intervala odm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Interval rada je stimulacijski proces, a interval odmora osigurava regeneraciju, oporavak za novi tr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00000"/>
                </a:solidFill>
                <a:latin typeface="Arial"/>
              </a:rPr>
              <a:t>Kontinuiranost trenin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Pravilno dozirano opterećenje izaziva odgovarajući umor i iscrpljenje, a pravilan oporavak odgovarajući tijek oporavka i pojavu povišene radne sposobnosti za naredni tr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Pojava superkompenzacije osnovna je akutna funkcionalna radnja organizma na kojoj se temelji kumulacija efekata i razvoj sportske 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521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00000"/>
                </a:solidFill>
                <a:latin typeface="Arial"/>
              </a:rPr>
              <a:t>Kontinuiranost trenin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714240" y="428580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706320" y="-6480"/>
            <a:ext cx="810900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00000"/>
                </a:solidFill>
                <a:latin typeface="Arial"/>
              </a:rPr>
              <a:t>Kontinuiranost trenin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0012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Ako se iduće opterećenje daje nakon potpunog oporavka neće biti značajnijih promjena, ostaje isti nivo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Ako opterećenje pada prije oporavka vodi padu sposobnosti sportaš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Ako pada u vrijeme superkompenzacije povećava mogućnosti sportaš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Zbog dnevnog ritma svakog pojedinca potrebno je trenirati 2 ili 3 puta dnev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00000"/>
                </a:solidFill>
                <a:latin typeface="Arial"/>
              </a:rPr>
              <a:t>Diskontinuiranost optereće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784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BA" sz="2800" spc="-1" strike="noStrike">
                <a:solidFill>
                  <a:srgbClr val="000000"/>
                </a:solidFill>
                <a:latin typeface="Arial"/>
              </a:rPr>
              <a:t>Klasična teorija: </a:t>
            </a: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postupno povećanje u pripremnom periodu, maksimum u natjecateljskom periodu i smanjenje u prijelaznom perio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BA" sz="2800" spc="-1" strike="noStrike">
                <a:solidFill>
                  <a:srgbClr val="000000"/>
                </a:solidFill>
                <a:latin typeface="Arial"/>
              </a:rPr>
              <a:t>Novija teorija: </a:t>
            </a: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progresivno diskontinuirano opterećenje u pripremnom perio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00000"/>
                </a:solidFill>
                <a:latin typeface="Arial"/>
              </a:rPr>
              <a:t>Prepokrivanje optereće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0718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Na treningu se daju mnogo veća opterećenja nego što se traže na natjecan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Natjecanje kao dio treni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00000"/>
                </a:solidFill>
                <a:latin typeface="Arial"/>
              </a:rPr>
              <a:t>Cikličnost trenin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430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Provođenje treninga u različitim vremenskim zaokruženim cjelinama koje su po nekom redu nadovez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Podjela na tri ciklu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mikrocik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mezocik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makrocik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213840"/>
            <a:ext cx="82296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500" spc="-1" strike="noStrike">
                <a:solidFill>
                  <a:srgbClr val="000000"/>
                </a:solidFill>
                <a:latin typeface="Arial"/>
              </a:rPr>
              <a:t>Mikrociklus </a:t>
            </a:r>
            <a:r>
              <a:rPr b="0" lang="hr-BA" sz="2500" spc="-1" strike="noStrike">
                <a:solidFill>
                  <a:srgbClr val="000000"/>
                </a:solidFill>
                <a:latin typeface="Arial"/>
              </a:rPr>
              <a:t>3-10 dana (odgovara tjednom treningu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500" spc="-1" strike="noStrike">
                <a:solidFill>
                  <a:srgbClr val="000000"/>
                </a:solidFill>
                <a:latin typeface="Arial"/>
              </a:rPr>
              <a:t>Regulira dinamiku vremena i rada između pojedinih treninga i natjecanja kao i stupanj intenziteta trening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500" spc="-1" strike="noStrike">
                <a:solidFill>
                  <a:srgbClr val="000000"/>
                </a:solidFill>
                <a:latin typeface="Arial"/>
              </a:rPr>
              <a:t>Mezociklus </a:t>
            </a:r>
            <a:r>
              <a:rPr b="0" lang="hr-BA" sz="2500" spc="-1" strike="noStrike">
                <a:solidFill>
                  <a:srgbClr val="000000"/>
                </a:solidFill>
                <a:latin typeface="Arial"/>
              </a:rPr>
              <a:t>3-6 tjedan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500" spc="-1" strike="noStrike">
                <a:solidFill>
                  <a:srgbClr val="000000"/>
                </a:solidFill>
                <a:latin typeface="Arial"/>
              </a:rPr>
              <a:t>Opseg i intenzitet opterećenja se ne poklapaju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500" spc="-1" strike="noStrike">
                <a:solidFill>
                  <a:srgbClr val="000000"/>
                </a:solidFill>
                <a:latin typeface="Arial"/>
              </a:rPr>
              <a:t>prvi tjedan raste opseg, a potom intenzit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500" spc="-1" strike="noStrike">
                <a:solidFill>
                  <a:srgbClr val="000000"/>
                </a:solidFill>
                <a:latin typeface="Arial"/>
              </a:rPr>
              <a:t>na kraju ciklusa se oba parametra smanjuj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500" spc="-1" strike="noStrike">
                <a:solidFill>
                  <a:srgbClr val="000000"/>
                </a:solidFill>
                <a:latin typeface="Arial"/>
              </a:rPr>
              <a:t>Makrociklus  </a:t>
            </a:r>
            <a:r>
              <a:rPr b="0" lang="hr-BA" sz="2500" spc="-1" strike="noStrike">
                <a:solidFill>
                  <a:srgbClr val="000000"/>
                </a:solidFill>
                <a:latin typeface="Arial"/>
              </a:rPr>
              <a:t>6-12 mjesec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500" spc="-1" strike="noStrike">
                <a:solidFill>
                  <a:srgbClr val="000000"/>
                </a:solidFill>
                <a:latin typeface="Arial"/>
              </a:rPr>
              <a:t>Zasniva se na periodizaciji godišnjeg treninga (ovisi o broju natjecateljskih sezon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500" spc="-1" strike="noStrike">
                <a:solidFill>
                  <a:srgbClr val="000000"/>
                </a:solidFill>
                <a:latin typeface="Arial"/>
              </a:rPr>
              <a:t>prvih mjeseci raste opseg, potom opada, a postupno raste intenzitet opterećenja do maksimu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500" spc="-1" strike="noStrike">
                <a:solidFill>
                  <a:srgbClr val="000000"/>
                </a:solidFill>
                <a:latin typeface="Arial"/>
              </a:rPr>
              <a:t>na kraju se smanjuje intenzitet, a održava se ili smanjuje opseg opterećen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00000"/>
                </a:solidFill>
                <a:latin typeface="Arial"/>
              </a:rPr>
              <a:t>Heterokronost trenin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714320"/>
            <a:ext cx="8329680" cy="46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Heterokronost ili neistovremenost je prirodna zakonitost procesa adaptacije i razvoja organiz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Heterokronost adaptivnih procesa na različitim nivoima strukturalno-funkcionalnog prilagođavanja pod utjecajem trenažnih opterećenja i heterokronosti oporavka omogućuju provođenje treninga više puta dnev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00000"/>
                </a:solidFill>
                <a:latin typeface="Arial"/>
              </a:rPr>
              <a:t>Heterokronost trenin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Početak oporavka je brz zato je i odmor s boljim efektom u ranim faz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Neistovremeni oporavak otežava pronalaženje kriterija spremnosti za ponovni rad. To usložnjava proces primjene različitih sredstava metoda i opterećenja treni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00000"/>
                </a:solidFill>
                <a:latin typeface="Arial"/>
              </a:rPr>
              <a:t>Zakonitosti sportskog trenin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14400" y="164268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Usmjerenost treni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Adaptivnost treni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Kontinuiranost treni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Diskontinuiranost optereć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Prepokrivanje optereć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Heterokronost treni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00000"/>
                </a:solidFill>
                <a:latin typeface="Arial"/>
              </a:rPr>
              <a:t>Usmjerenost trenin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27040" y="1571760"/>
            <a:ext cx="8229600" cy="47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Temelji se na specifičnim relacijama između </a:t>
            </a:r>
            <a:r>
              <a:rPr b="1" lang="hr-BA" sz="2800" spc="-1" strike="noStrike">
                <a:solidFill>
                  <a:srgbClr val="000000"/>
                </a:solidFill>
                <a:latin typeface="Arial"/>
              </a:rPr>
              <a:t>ciljeva</a:t>
            </a: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 koji se žele postići i </a:t>
            </a:r>
            <a:r>
              <a:rPr b="1" lang="hr-BA" sz="2800" spc="-1" strike="noStrike">
                <a:solidFill>
                  <a:srgbClr val="000000"/>
                </a:solidFill>
                <a:latin typeface="Arial"/>
              </a:rPr>
              <a:t>programa</a:t>
            </a: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 treninga koji treba osigurati postizanje željenih cilj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Označava tendenciju razvoja i usavršavanja naročito </a:t>
            </a:r>
            <a:r>
              <a:rPr b="1" lang="hr-BA" sz="2800" spc="-1" strike="noStrike">
                <a:solidFill>
                  <a:srgbClr val="000000"/>
                </a:solidFill>
                <a:latin typeface="Arial"/>
              </a:rPr>
              <a:t>značajnih i važnih sposobnosti </a:t>
            </a: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sportaša koje su u konretnoj sportskoj grani temelj uspješnosti i sportskih postignuća (jednadžba specifikacij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00000"/>
                </a:solidFill>
                <a:latin typeface="Arial"/>
              </a:rPr>
              <a:t>Usmjerenost trenin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822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Za usmjeravanje treninga treba zna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800" spc="-1" strike="noStrike">
                <a:solidFill>
                  <a:srgbClr val="000000"/>
                </a:solidFill>
                <a:latin typeface="Arial"/>
              </a:rPr>
              <a:t>Jednadžbu specifikacije </a:t>
            </a: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uspješnosti u sportu: hijerarhijsku strukturu čimbenika uspješnosti u pojedinom sportu ili sportskoj discipl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00000"/>
                </a:solidFill>
                <a:latin typeface="Arial"/>
              </a:rPr>
              <a:t>Usmjerenost trenin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800" spc="-1" strike="noStrike">
                <a:solidFill>
                  <a:srgbClr val="000000"/>
                </a:solidFill>
                <a:latin typeface="Arial"/>
              </a:rPr>
              <a:t>Individualne osobine sportaš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sposobnosti i znanja sportaša u kojima ne zadovoljava modelne vrijed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treningom treba utjecati na slabe točke u pripremljenosti pojedinog sportaš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800" spc="-1" strike="noStrike">
                <a:solidFill>
                  <a:srgbClr val="000000"/>
                </a:solidFill>
                <a:latin typeface="Arial"/>
              </a:rPr>
              <a:t>Dobne znakovitosti pojedinca i grupe </a:t>
            </a: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i mogućnosti razvoja komponenti pripremljenosti sportaša u pojedinim dobnim razdoblji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00000"/>
                </a:solidFill>
                <a:latin typeface="Arial"/>
              </a:rPr>
              <a:t>Usmjerenost trenin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43040"/>
            <a:ext cx="840096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Za usmjeravanje treninga potrebno je uvažava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sp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kvalitetni nivo sportaš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rang natjec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uvjete i materijalnu osno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sportske pripre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00000"/>
                </a:solidFill>
                <a:latin typeface="Arial"/>
              </a:rPr>
              <a:t>Adaptivnost trenin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81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Dugotrajni proces promjene svih relevantnih dimenzija ličnosti ka višem vrhunskom nivou i usuglašavanje sa specifičnim vanjskim uvjet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U tijeku adaptivnosti postoji odnos između opterećenja i adapt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00000"/>
                </a:solidFill>
                <a:latin typeface="Arial"/>
              </a:rPr>
              <a:t>Adaptivnost trenin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9120" y="18028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Trenažno opterećenje utječe na stanje oragnizma, a stanje organizma na efikasnost optereći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Optimalno opterećenje je ono koje može izazvati pozitivan adaptivni efekt u organizmu (malo opterećenje ne izaziva traženi efekt, a preveliko ruši adaptivni mehaniz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00000"/>
                </a:solidFill>
                <a:latin typeface="Arial"/>
              </a:rPr>
              <a:t>Adaptivnost trenin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71400"/>
            <a:ext cx="8686800" cy="47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Postupno i neprekidno povećanje stimulusa adaptira na sve veće napore i vodi povećanju radne sp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Sposobnost stimulusa da izazove promjene omogućava povećanu radnu sposobn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Ako stimulus djeluje istom jačinom ili istim intervalom duže vrijeme radna sposobnost se povećava do određene razine iako stimulusi ostaju isti javlja se adaptacija i pad radne sp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Ibler1</cp:lastModifiedBy>
  <dcterms:modified xsi:type="dcterms:W3CDTF">2016-01-11T09:19:08Z</dcterms:modified>
  <cp:revision>687</cp:revision>
  <dc:subject/>
  <dc:title>Diapositiva 1</dc:title>
</cp:coreProperties>
</file>