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AC5C-0959-4FDD-AF90-02DEBF001E6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D3F9-84BA-4029-BDDF-5845075449C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F39-53CD-4C61-BC3A-2A92F473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C90-FD60-4921-B51A-35B29A52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626-EBC6-4F15-BAB3-B36724F1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C61-C049-4185-BC18-D8E5D926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F959-F0E2-4618-9273-160BE902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D853-2BA3-461C-AF4C-4A63447E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101E-DFAC-4022-9BBC-2479FD8D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A6CE-1347-49F9-8915-DEF86A24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8F47-7941-4FD5-AC7A-729B934A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148F-8DCC-4FB8-8539-FC2ECB88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77F2-32C1-44B8-A613-BA0B4284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D0C-585E-4D22-A9DB-86BCC2DB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6E99-C937-410F-9022-D82B11BD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C53B-FDAB-4A98-8F5E-C218619D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4CFA-5A63-45C5-AC87-283A68CB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F553-6E9D-4159-9DB2-B012397A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A26E-5092-43AD-BF38-8DCB7CA8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B13-5195-49F6-97CC-D4E2749B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AC2-7AD4-4998-AFDF-AB966D5E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D4D-7E1D-4187-84F7-FC02A06B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C680-CA96-4B83-A4E4-13E67962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3EF-943C-4572-A4C4-88BEF959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B32-9D8D-4ACA-9D87-836E55F0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9ED-D08E-4087-B3C7-C8D51DB8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E501-CC51-40E0-80D3-FAEAF927D4E8}" type="datetime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E12E633-3215-46C6-AE35-EF36AA84B419}" type="datetime10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21C8-D6F1-4080-B2EE-CB18843EF0CB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6122-A5BE-4639-AF9A-2BEB46309387}" type="datetime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7E4AC3C-72E9-47E7-AC02-DE0585C06C09}" type="datetime10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72A8-4519-4E12-ACE3-CCCBA572F553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B7CD-0048-48C2-8BFB-F562BC1F8246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cc0000"/>
                </a:solidFill>
                <a:latin typeface="Monotype Corsiva"/>
              </a:rPr>
              <a:t>HIGIJENA PREDŠKOLSKIH USTANOV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999880" y="4941720"/>
            <a:ext cx="56689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Monotype Corsiva"/>
              </a:rPr>
              <a:t>Prim.mr.med.sc. Vesna Korda-Vidi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00"/>
                </a:solidFill>
                <a:latin typeface="Monotype Corsiva"/>
              </a:rPr>
              <a:t>ZZJZ F BIH Most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420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Verdana"/>
              </a:rPr>
              <a:t>Tim slijedom treba </a:t>
            </a:r>
            <a:br>
              <a:rPr sz="3800"/>
            </a:br>
            <a:r>
              <a:rPr b="1" lang="hr-HR" sz="3800" spc="-1" strike="noStrike">
                <a:solidFill>
                  <a:srgbClr val="000000"/>
                </a:solidFill>
                <a:latin typeface="Verdana"/>
              </a:rPr>
              <a:t>planirati i provoditi mjere za postizanje sigurnosti djece i preveniranje  neželjenih posljedica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66280" y="5950080"/>
            <a:ext cx="8001000" cy="69840"/>
          </a:xfrm>
          <a:prstGeom prst="rect">
            <a:avLst/>
          </a:prstGeom>
          <a:ln w="0">
            <a:noFill/>
          </a:ln>
        </p:spPr>
      </p:pic>
      <p:sp>
        <p:nvSpPr>
          <p:cNvPr id="13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CBFE-B24D-4B8A-A863-8E22B4D45A27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3572DE72-0B7F-4FE7-A9A2-3B6DD377148E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52E3-419F-45B8-9F72-C973B175878D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Verdana"/>
              </a:rPr>
              <a:t>Zaštita zdravlj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071360"/>
            <a:ext cx="82105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d zaraznih bolesti provodi s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ontrolom procijepljenosti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ažljivom jutarnjom trijažom 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imanje dolaskom u kolektiv zdravog djeteta  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ezinfekcija, dezinsekcija opreme, prostora i svega sa čim dijete dolazi u kontakt u vrtiću jamče djeci zdravstvenu sigurnos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5F32-B94A-4B0B-BC50-E846F002DEC8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9895396-E383-40D4-A0BD-CC3705518E8A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EA98-E8CC-4E53-B628-637DBE72B6B3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-243360"/>
            <a:ext cx="8001000" cy="532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av odgojni kadar kao i </a:t>
            </a:r>
            <a:br>
              <a:rPr sz="3800"/>
            </a:br>
            <a:r>
              <a:rPr b="1" lang="hr-H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moćno osoblje, </a:t>
            </a:r>
            <a:br>
              <a:rPr sz="3800"/>
            </a:br>
            <a:r>
              <a:rPr b="1" lang="hr-HR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a prehrane (uzorci), također, jamstvo je zdravstvene sigurnosti djece!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66280" y="5516640"/>
            <a:ext cx="8001000" cy="503280"/>
          </a:xfrm>
          <a:prstGeom prst="rect">
            <a:avLst/>
          </a:prstGeom>
          <a:ln w="0">
            <a:noFill/>
          </a:ln>
        </p:spPr>
      </p:pic>
      <p:sp>
        <p:nvSpPr>
          <p:cNvPr id="13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EBDE-6EEA-4149-8CF5-D2FD04C29F2B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64D6480-23A6-4EF7-9546-5ACB0E9AFC55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DE46-1AC1-4CB0-80A4-CA7B87DFF97A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Verdana"/>
              </a:rPr>
              <a:t>Preventivne aktivnosti u odnosu na zaposlene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avezni sistematski pregledi odgojitelja jednom godišnje, a z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blje na pripremi i distribuciji hrane  svakih šest mjese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potrebi, ako postoji indikacija i češć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768C-804B-4D89-A822-6EBDD1C340E0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55CA3A4F-81E9-4D61-9D80-C186CA0203B4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3EF1-3AB2-4406-A052-8BBDD7A341DA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Verdana"/>
              </a:rPr>
              <a:t>U odnosu na dijete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6628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vencija respiratornih obolje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vencija zaraznih oboljenja u kolektiv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vencija i liječenje poremećaja u ponašanj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vencija koštano mišićnih promjena djece i preventivni pregled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vencija karijesa i bolesti zub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aćenje stanja uhranjenosti zbog odstupanja u težini i visini te akcije za sprečavanje isti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F97A-CCD5-4562-9CB0-9A3863C2E081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F3425001-37C9-40BF-BD48-1204661E59F9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FAEA-63DE-4FA0-BF5D-5A3E0313E729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Verdana"/>
              </a:rPr>
              <a:t>Prethodni sistematski zdravstveni pregle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buhvaća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gled stolice na bakterije (shigelle) i crijevne parazite (analni otisak)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gled vlasišta na ušljivosti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gled kože na znakove svrab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 heteroanamnezi trebaju se uzeti podaci o eventualnoj tuberkulozi u obitelji</a:t>
            </a:r>
            <a:br>
              <a:rPr sz="3000"/>
            </a:br>
            <a:br>
              <a:rPr sz="3000"/>
            </a:b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AA69-2F60-4E63-BA1A-113340205A86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13E6F973-52AD-4F47-9E24-23B511D1A0F7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0ABD-94D0-4779-8703-C27B474C57F2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Verdana"/>
              </a:rPr>
              <a:t>Mjere za osiguranje higijene u dječjem vrtiću obuhvaćaju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66280" y="1125360"/>
            <a:ext cx="80010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ispunjavanje uvjeta smještaj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ispunjavanje uvjeta u pogledu prehran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mjere prevencije od zaraznih bolesti tijekom zajedničkog boravk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mjere vezane na svakodnevne aktivnosti u dječjem vrtiću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održavanje higijene i nadzor nad higijenskim stanjem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mjere za zaštitu od zaraznih bolesti, nadzor i PE mjere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83480" indent="-483480">
              <a:spcBef>
                <a:spcPts val="60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zdravstveni odgoj djece…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CC12-128F-45C6-9F0D-69191B0B7E14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173CF06B-6EFE-4ACB-962C-651C4C5898F3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085A-0D8A-4808-8E66-B08345928DAC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jere za sprečavanje širenja infekcij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6280" y="1915920"/>
            <a:ext cx="8001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na briga o mikroklimatskim uvjetima (temperatura, vlažnost zraka)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jetravanje prostora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odnevni boravak na zrak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uka djece o osobnoj higijeni (pranje ruku i tijel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zor djece pri korištenju sanitarnog čvora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3950-D500-44BC-B3A5-1D67D204F9DD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13A7787C-C17E-4E0B-B0B3-41177A426F08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3613-B029-469B-8EF7-08B7448D4B7B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Verdana"/>
              </a:rPr>
              <a:t>U cilju zaštite od zaraznih bolesti potrebno j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4920" y="1557360"/>
            <a:ext cx="81723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titi zdravstveno stanje djece koja pohađaju dječji vrtić, odnosno pobol te razloge izostajanja iz ustanove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oditi svakog dana, pri dolasku djece u dječji vrtić, trijažu i uputiti djecu na liječnički pregled i liječenje kod odgovarajuće indikacij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dzirati dječju igru i sprječavati nastanak ozljeda</a:t>
            </a:r>
            <a:br>
              <a:rPr sz="3200"/>
            </a:b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00EF-BA20-4DE6-861F-5D4AA0EED15B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04FF5207-E8E2-4150-8CDC-7A7FAFEBBC68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A848-DA12-40D3-80D6-724B54390FF8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edškolskim ustanovama treba: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280" y="1752480"/>
            <a:ext cx="800100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or ustanove biti čist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odnevno dezinficirati sanitarnog čvora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i redovito provjetravana prostorija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gurati odgovarajuće grijanje zimi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j djece u prostoriji ne smije biti veći od propisanog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CD6A-6128-49E8-A607-FEC15CF43F54}" type="datetime">
              <a:rPr b="1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8E282D15-FE9D-4C3E-ADDF-A96F0F093D2A}" type="datetime10">
              <a:rPr b="1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E487-38B1-49D6-BC5F-10D5848E310B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6280" y="-113184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620640"/>
            <a:ext cx="8001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ži kompromisna rješenja za pomirenje negativnih i pozitivnih utjecaja predškolskih ustanov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ranje pozitivnih i saniranje negativnih utjeca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rinosi očuvanju i razvoju fizičkog i psihičkog zdravlja djece kroz cijeli period predškolskog odgoja i umanjenje mogućih štetnih djelovan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A7BA-864F-411E-88B1-31FD154B7A95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31B8F85-7172-4592-B57F-D0EBE1E6052F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2DF8-482E-48E2-9FBB-C31276B71805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-98928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6280" y="115920"/>
            <a:ext cx="8001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rebno je redovito pranje i mijenjanje postelj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vezno osigurana zdravstveno ispravna čistu vodu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arajući namještaj koji ne pogoduje nastanku ozljeda s krvarenjem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gurane zdravstveno ispravne i igračke i drugi predmete opće uporab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gurana dovoljna količinu sredstava za opću higijenu djece</a:t>
            </a:r>
            <a:br>
              <a:rPr sz="3000"/>
            </a:br>
            <a:br>
              <a:rPr sz="3000"/>
            </a:br>
            <a:r>
              <a:rPr b="0" lang="hr-HR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E3C6-BF41-45ED-9E95-1CE0F5557802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43715ABC-00C8-4344-A2D2-645F1E1A9581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F3A4-E971-4906-B91D-48C0675C2549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zervirano mjesto datuma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A425-10C6-4144-881C-422A0116A468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F9E8A24E-20BC-4CFF-920C-11725E30BE67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zervirano mjesto broja slajda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8D94-9017-420A-8BF2-4CB1E19E17C5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280" y="-313560"/>
            <a:ext cx="8001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691920"/>
            <a:ext cx="86421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ajpovoljniji smještaj predškolskih objekata je u namjenski građenim jednokatnim objektim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Dopušta se, međutim, da se smještaju i u stambene ili javne zgrade, ako imaju poseb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laz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 svakom slučaju za lokaciju se bira higijenski najpovoljniji teren s obzirom na kvalitetu zemljišta, insolaciju, opskrbu vodom…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ažno je da objekti imaju dovoljno slobodnog, neizgrađenog prostora za igru dje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kupna površina treba odgovarati planiranom broju dje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ajbolja orijentacija zgrade je takva da funkcionalne prostorije budu okrenute prema jugu ili jugoistok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Cijelom dužinom ovih prostorija se izgrađuju terase, koje djece mogu koristiti za zabavu, igru i popodnevni s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FAFA-F848-49BB-9F3D-0AAA3B4A1694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29E1FD17-D6A5-417F-8878-13BDDBF140E0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F1A0-DCA6-47CA-A442-EF05929F50E8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zervirano mjesto datuma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B7E7-6B54-4804-8BAE-A428F02E2A8F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BC2413D9-8834-4DD4-850B-FB3035AE7689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zervirano mjesto broja slajda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450C-5ADA-4188-87A4-7FE8132B19C9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280" y="341280"/>
            <a:ext cx="80010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Higijenski zahtjevi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Za građevinski materijal u svemu su isti kao i za kvalitetnu stambenu izgradnj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Grijanje treba biti centralno, s toplom vodom i temperaturom oko 20 Cº, uz što izdašniju prirodnu ventilacij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Idealno bi bilo prirodno osvjetlje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Ovi objekti se ne mogu zamisliti bez vodovoda i kanalizacije pa se u naseljima bez njih moraju izgraditi kompletni lokalni sustav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Sakupljanje i uklanjanje krutih otpadaka mora biti izvedeno  strogo po higijenskim principim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zervirano mjesto datuma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E553-14BF-476E-BBCF-0E7BBF700D9E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ABC7A5E9-E0CF-4AD5-A2A4-9D4597ED35EB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zervirano mjesto broja slajda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838B-8150-4000-8A30-85B2222158DB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-59760"/>
            <a:ext cx="80010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54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560" y="713880"/>
            <a:ext cx="8713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obe za boravak djece se dijele prema uzrastu dje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nutrašnjost prostorija namijenjenih djeci treba biti tako izgrađena da daje najveću moguću sigurnost, najbolji higijenski komfor i mogućnost čišćenja i održavanj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idovi trebaju biti glatki, a poželjno je da su bojeni vodootpornom masnom bojom, radi lakšeg održavanj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oje zidova bi trebale biti svijetle i svih nijans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ijela boja se izbjegava jer je monotona i reflektira mnogo svjetlos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idovi prostorija za djecu ukrašeni su raznim crtežima i slikam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gračke moraju biti prikladne po obliku, s površinama koje se lako održavaju, bez toksičnih boja i onih koje se lako skidaj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išćenje cijelog prostora i igračaka se obavlja svakodnev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280" y="-1035000"/>
            <a:ext cx="800100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lna prehrana djece u predškolskim ustanovama osigurava se:</a:t>
            </a:r>
            <a:br>
              <a:rPr sz="4800"/>
            </a:br>
            <a:r>
              <a:rPr b="0" lang="hr-H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4920" y="2060640"/>
            <a:ext cx="8172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redovitim brojem obroka u skladu s preporučenim količinama energije i prehrambenih tvari kao 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opisanim sanitarnim nadzorom nad namirnicama i predmetima opće uporabe koji se koriste u prehrani djece</a:t>
            </a:r>
            <a:br>
              <a:rPr sz="3000"/>
            </a:b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E8D5-DA6D-4813-9099-E4C9A9062342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37AA2E26-5A5F-4B18-BE74-7DB59166B4FD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5D17-28E0-4871-800F-9CBCE3069BFA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-171720"/>
            <a:ext cx="800100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isno o duljini boravka,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nosno o vrsti dnevnog programa koji dijete polazi treba planirati broj dnevnih obroka i količine hrane radi osiguranja preporuka prehrambenih standar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340000" y="2992320"/>
          <a:ext cx="4608360" cy="3505320"/>
        </p:xfrm>
        <a:graphic>
          <a:graphicData uri="http://schemas.openxmlformats.org/drawingml/2006/table">
            <a:tbl>
              <a:tblPr/>
              <a:tblGrid>
                <a:gridCol w="1333440"/>
                <a:gridCol w="1762200"/>
                <a:gridCol w="1512720"/>
              </a:tblGrid>
              <a:tr h="701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uljina borav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dnevn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j obro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701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vrtiću (sat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poručenih količ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–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351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–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2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400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–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  <p:sp>
        <p:nvSpPr>
          <p:cNvPr id="19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CB03-21E4-4B5F-AC33-7DE3DD646A90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2A6926B3-EDC3-4048-993A-87E34FD83729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FA82-A5F7-430F-8F48-AA083B4D3EC6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497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Verdana"/>
              </a:rPr>
              <a:t>Treba inzistirati na usvajanju zdravih navika u prehrani!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2E1A-5C40-4703-A498-9BE5C3D2EDBC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D05E0185-D38D-4291-8894-CC20AA7142D9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498C-090F-4149-90EC-E8AE7D0ADB6E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Content Placeholder 5" descr="http://www.zdravlje.hr/var/mzss/storage/images/media/images/zdrava_prehrana/71317-1-cro-HR/zdrava_prehrana_large.jpg"/>
          <p:cNvPicPr/>
          <p:nvPr/>
        </p:nvPicPr>
        <p:blipFill>
          <a:blip r:embed="rId2"/>
          <a:stretch/>
        </p:blipFill>
        <p:spPr>
          <a:xfrm>
            <a:off x="1619280" y="1557360"/>
            <a:ext cx="556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9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Na psihičko zdravlje djece djeluju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6280" y="263664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edagoške metode i način rada,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odnosi s odgojiteljima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eđusobni odnosi djece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EC92-B513-4FC9-BBFC-2DE823F8A5FF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74518A36-8044-4159-96DD-534CF0EEF2D9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4E02-1EEA-42BE-BFAB-EFECEACDE345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10F6-1ACF-4B18-A067-5168BC88E2D7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14EBBB5D-1FC1-43F0-BB5C-79C25D5453DD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AC78-4AC3-4603-9AB2-2C0496CE9314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Content Placeholder 5" descr="http://www.sibenik.hr/slike/2019-n.jpg"/>
          <p:cNvPicPr/>
          <p:nvPr/>
        </p:nvPicPr>
        <p:blipFill>
          <a:blip r:embed="rId2"/>
          <a:stretch/>
        </p:blipFill>
        <p:spPr>
          <a:xfrm>
            <a:off x="539640" y="404640"/>
            <a:ext cx="76327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zervirano mjesto datuma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F571-A716-4739-982D-438BB0A054A1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B490A60A-28C0-4A40-8549-21E352A6FE0A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zervirano mjesto broja slajda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27D2-305B-4BCD-9D4A-A469E956E1A2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-642600"/>
            <a:ext cx="8001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600" spc="-1" strike="noStrike">
              <a:solidFill>
                <a:srgbClr val="cc0000"/>
              </a:solidFill>
              <a:latin typeface="Monotype Corsiv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557360"/>
            <a:ext cx="8001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edškolske ustanove kod nas su jaslice i vrtići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Jaslice su namijenjene djeci do navršene treće godine,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Vrtići djeci uzrasta od četvrte do šeste godine, tj. do polaska u škol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Verdana"/>
              </a:rPr>
              <a:t>Skrb za sigurnost i zdravlje djetet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urna okolina u prostoru i za vrijeme boravka na otvorenom uz potrebne mjere opreza i edukaciju djece prva je zadaća odgojitelj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je osnovna potreba i pravo djeteta, a naša konstantna zadaća i odgovorno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odi se kroz rad s djecom, s odgojiteljima i roditeljima, skrbnici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6A87-C924-4BC3-8533-2CD759C0975F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5EAF6078-0B41-47F0-A37B-0A9EC3C5B271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F91C-37D1-4469-8590-A46701FC2342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Verdana"/>
              </a:rPr>
              <a:t>Zdravlje je promjenjiva i dinamična komponenta živo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628640"/>
            <a:ext cx="856908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njega utječu okolišne i životne navi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jenjaju se i prioritete i potrebe za zdravljem kroz faze rasta i razvoja te prevenciju bolesti s njegom i prvom pomoć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edstavlja problematik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državanja i očuvanja zdravlja od preventivnih dnevnih radnji d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puta za praktično posezanje u rješavanju problema u kritičnim i hitnim situacija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7F3C-8774-4476-B683-872104DFD652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BF889618-8554-4F2F-8289-52B1635B3287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EEA6-EECC-43ED-91A3-04FB815CC568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396280" cy="31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Verdana"/>
              </a:rPr>
              <a:t>Prioriteti i potrebe za zdravljem se mijenjaju kroz faze rasta i razvoja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3789360"/>
            <a:ext cx="800100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žnost prevencije bolesti s njegom i prvom pomoć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8248-996E-4005-BFFE-9B5C2FFC9BD9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93135699-E3C7-4989-8625-E16965930305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FC00-2DAB-435B-AC81-069CD770016B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324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Verdana"/>
              </a:rPr>
              <a:t>Higijenski uvjeti u predškolskim ustanovama  utječu na razvoj dje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obna higijena,  ekološki i higijenski zahtjevi za okolinu u kojoj djeca borave pretpostavke su za zdrav razvoj i zaštitu djetet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jere koje se odnose na dijete, mjere su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sprečavanje  bolesti i povreda i osobi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ijanje svijesti o posljedicama rizičnog ponaša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505C-9B4F-45CA-8F8C-E6F15BDD5903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0C5D33F3-57DF-49E8-9023-121234B086EA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304E-C449-4F85-B0E2-673E3A11B07B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Verdana"/>
              </a:rPr>
              <a:t>Ove mjere se provode kroz: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66280" y="1483920"/>
            <a:ext cx="8001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siguranje odgovarajućih sanitarno higijenskih uvjeta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siguranje prehrane s razvijanjem navika zdrave prehran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svajanje kulturnih navika i uljudnog ponaša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zdravog stila života,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04000" indent="-5040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 osobitim situacijama i kroz oblike zdravstvene zašti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CE6D-DC8B-404C-BA78-26BDDDD2D961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E1A30AD0-7BDA-456E-95D9-B6FC26A973C1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4F11-08CE-42A9-8447-967352C0C5D8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0000"/>
                </a:solidFill>
                <a:latin typeface="Verdana"/>
              </a:rPr>
              <a:t>Zadatci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6280" y="1125360"/>
            <a:ext cx="80010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Verdana"/>
              </a:rPr>
              <a:t>Najčešći problemi vezani su uz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ovećanu izloženost infekcijama,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težano prilagođavanje pojedine djece 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ojačanu mogućnost od nezgo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6094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5FF8-54CB-4E70-A305-1FE62B83C185}" type="datetime">
              <a:rPr b="0" lang="hr-HR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 </a:t>
            </a:r>
            <a:fld id="{A3961529-0F99-4DFE-A12D-189345DA458D}" type="datetime10">
              <a:rPr b="0" lang="hr-HR" sz="1200" spc="-1" strike="noStrike">
                <a:solidFill>
                  <a:srgbClr val="000000"/>
                </a:solidFill>
                <a:latin typeface="Verdana"/>
              </a:rPr>
              <a:t>15:13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280F-AAC1-40AC-A2A7-141D7057D222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22:31:53Z</dcterms:created>
  <dc:creator>jasar</dc:creator>
  <dc:description/>
  <dc:language>en-US</dc:language>
  <cp:lastModifiedBy>Sanda Mandić</cp:lastModifiedBy>
  <dcterms:modified xsi:type="dcterms:W3CDTF">2013-12-16T12:36:29Z</dcterms:modified>
  <cp:revision>61</cp:revision>
  <dc:subject/>
  <dc:title>HIGIJENA ŠKOLA I PREDŠKOLSKIH USTANOVA</dc:title>
</cp:coreProperties>
</file>